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2818-2F0E-4424-9DCA-F32F77DC2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5387-7CE2-4F2D-8E26-ECDACE806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32E1-1150-4EAB-98B5-09B9270CB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2DAA-239C-4E9A-B763-DC9056802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CAC6-3673-42F6-849B-7041463F6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5793-4881-44C3-A28E-C4CFEE90A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2B47-DBA9-426D-8A2D-97BD327EC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99A4-4893-44C4-8D07-447CF4FFE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ADB0-D138-4C13-86AE-D40CD0D20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4111-9294-4BB0-8392-6AB0A5B94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4DD2-A0DB-48EB-8FFC-F093CF7A8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99CF-587D-4E70-B4BB-EEE820C52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6CA1-D78B-41BD-8796-463FC409F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2972-D679-4E70-8F3F-8B5BB3961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13EF-C406-4616-A0BA-8AB004C97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C436-4D61-4110-BA63-BB34AE21C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1467-76CB-47F4-B422-2BBA5655A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226B-661E-4E23-9F0B-78F3B3D1E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5F87-A786-4979-9633-38EFADFA0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C84A-3EC4-4535-A76E-139048F77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2166-39D2-41BD-925B-C8B595018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61E4-FF1C-4396-BF1E-A18F2026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E978-8103-4911-87A1-8D448156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639D-32AF-4C13-866E-1AE6366C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060C-1765-481B-B7D4-EFD18406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420B-88BC-424B-AB76-60E1DAB4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1361-11DE-4F59-A45D-6E9B84FF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ED60-66CE-481A-985F-AA67A73E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1C81-F1F7-41BB-A7D3-4FB93879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53DC-66D8-49A6-A10F-0E872677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423E-8953-468D-9C9D-445BEA0C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484C-FF5D-4402-A6C7-2C57F1F0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00B4-9B5E-4237-AE20-2908D5F2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E5E8-EB62-4BE9-926F-2B8F9DD71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wilberforce signature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370320" y="3459240"/>
            <a:ext cx="2504880" cy="606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>
            <a:hlinkClick r:id="" action="ppaction://hlinkshowjump?jump=nextslide"/>
          </p:cNvPr>
          <p:cNvSpPr/>
          <p:nvPr/>
        </p:nvSpPr>
        <p:spPr>
          <a:xfrm>
            <a:off x="3360600" y="50547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Religion was very important to William. He wrote a book about religion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6477120" y="6235560"/>
            <a:ext cx="251460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3000" fill="hold"/>
                                        <p:tgtEl>
                                          <p:spTgt spid="9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He did like reading, but there is something else this book can tell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04920" y="3986280"/>
            <a:ext cx="851508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b2a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A campaign is when people talk about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70000" y="4952880"/>
            <a:ext cx="855000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b) A campaign is when people work together to try and achieve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Wilberforce was the leader of a very important campa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629400" y="623880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a9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3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Talking is important but a campaign is more than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629400" y="623556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a9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3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04920" y="3886200"/>
            <a:ext cx="8458200" cy="106884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campaigned to stop people being cruel to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5257800"/>
            <a:ext cx="845820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William campaign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7100" t="10951" r="17619" b="0"/>
          <a:stretch/>
        </p:blipFill>
        <p:spPr>
          <a:xfrm>
            <a:off x="5334120" y="304920"/>
            <a:ext cx="350496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-828720" y="647856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04920" y="34290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led the campaign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629400" y="624852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3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920" y="3429000"/>
            <a:ext cx="8534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did campaign to stop people being cruel to animals, but that is not the main thing he wanted to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04920" y="4665600"/>
            <a:ext cx="838188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born in Hu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70000" y="5504040"/>
            <a:ext cx="84168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help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4920" y="373392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e remember William Wilberforce because he led a long campaign which made slavery s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>
            <a:hlinkClick r:id="rId1" action="ppaction://hlinksldjump"/>
          </p:cNvPr>
          <p:cNvSpPr/>
          <p:nvPr/>
        </p:nvSpPr>
        <p:spPr>
          <a:xfrm>
            <a:off x="0" y="0"/>
            <a:ext cx="8991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57240">
            <a:solidFill>
              <a:srgbClr val="00b2a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, always click inside the answer box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wilberforce signature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352680" y="4038480"/>
            <a:ext cx="2505240" cy="606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>
            <a:hlinkClick r:id="" action="ppaction://hlinkshowjump?jump=nextslide"/>
          </p:cNvPr>
          <p:cNvSpPr/>
          <p:nvPr/>
        </p:nvSpPr>
        <p:spPr>
          <a:xfrm>
            <a:off x="3352680" y="47242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3"/>
          <a:stretch/>
        </p:blipFill>
        <p:spPr>
          <a:xfrm rot="1847400">
            <a:off x="1050480" y="2792520"/>
            <a:ext cx="153684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-828720" y="6526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ilberforce was born in Hull but that is not the main reason we remembe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3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>
            <a:hlinkClick r:id="rId2" action="ppaction://hlinksldjump"/>
          </p:cNvPr>
          <p:cNvSpPr/>
          <p:nvPr/>
        </p:nvSpPr>
        <p:spPr>
          <a:xfrm>
            <a:off x="685800" y="518148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Because he was born in Hu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>
            <a:hlinkClick r:id="rId3" action="ppaction://hlinksldjump"/>
          </p:cNvPr>
          <p:cNvSpPr/>
          <p:nvPr/>
        </p:nvSpPr>
        <p:spPr>
          <a:xfrm>
            <a:off x="685800" y="419112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a) Because he was born in this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-900000" y="65041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3962520"/>
            <a:ext cx="80773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here over 200 years ago. He lived here until he was nine year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-828720" y="64897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09480" y="3962520"/>
            <a:ext cx="807732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in Hull but there is another reas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>
            <a:hlinkClick r:id="rId2" action="ppaction://hlinksldjump"/>
          </p:cNvPr>
          <p:cNvSpPr/>
          <p:nvPr/>
        </p:nvSpPr>
        <p:spPr>
          <a:xfrm>
            <a:off x="6781680" y="6248520"/>
            <a:ext cx="221004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>
            <a:hlinkClick r:id="rId1" action="ppaction://hlinksldjump"/>
          </p:cNvPr>
          <p:cNvSpPr/>
          <p:nvPr/>
        </p:nvSpPr>
        <p:spPr>
          <a:xfrm>
            <a:off x="304920" y="4525920"/>
            <a:ext cx="84582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good at giving speec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>
            <a:hlinkClick r:id="rId2" action="ppaction://hlinksldjump"/>
          </p:cNvPr>
          <p:cNvSpPr/>
          <p:nvPr/>
        </p:nvSpPr>
        <p:spPr>
          <a:xfrm>
            <a:off x="345960" y="5334120"/>
            <a:ext cx="841716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wanted to help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ww1"/>
          <p:cNvPicPr/>
          <p:nvPr/>
        </p:nvPicPr>
        <p:blipFill>
          <a:blip r:embed="rId3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thought he could help lots of people if he was a Member of Parlia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3000" fill="hold"/>
                                        <p:tgtEl>
                                          <p:spTgt spid="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as very good at giving speeches, but that is not the r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>
            <a:hlinkClick r:id="rId2" action="ppaction://hlinksldjump"/>
          </p:cNvPr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>
            <a:hlinkClick r:id="rId1" action="ppaction://hlinksldjump"/>
          </p:cNvPr>
          <p:cNvSpPr/>
          <p:nvPr/>
        </p:nvSpPr>
        <p:spPr>
          <a:xfrm>
            <a:off x="304920" y="4525920"/>
            <a:ext cx="822960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66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It tells us he liked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>
            <a:hlinkClick r:id="rId2" action="ppaction://hlinksldjump"/>
          </p:cNvPr>
          <p:cNvSpPr/>
          <p:nvPr/>
        </p:nvSpPr>
        <p:spPr>
          <a:xfrm>
            <a:off x="270000" y="5450040"/>
            <a:ext cx="826452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b) It tells us </a:t>
            </a:r>
            <a:r>
              <a:rPr b="0" lang="en-US" sz="3200" spc="-1" strike="noStrike">
                <a:solidFill>
                  <a:srgbClr val="ff6666"/>
                </a:solidFill>
                <a:latin typeface="ヒラギノ角ゴ Pro W3"/>
              </a:rPr>
              <a:t>r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eligion was important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Wilberforce Family Bible2"/>
          <p:cNvPicPr/>
          <p:nvPr/>
        </p:nvPicPr>
        <p:blipFill>
          <a:blip r:embed="rId3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20:10:33Z</dcterms:created>
  <dc:creator>Nick Cass</dc:creator>
  <dc:description/>
  <dc:language>en-US</dc:language>
  <cp:lastModifiedBy>Bartley, Izzy</cp:lastModifiedBy>
  <dcterms:modified xsi:type="dcterms:W3CDTF">2018-03-28T10:14:20Z</dcterms:modified>
  <cp:revision>22</cp:revision>
  <dc:subject/>
  <dc:title>Why Do We Remember William Wilberforce?</dc:title>
</cp:coreProperties>
</file>