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E16F76-0327-4AF5-957D-84A027B56B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529E3C-403B-4437-944B-6159FEDD03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A41492-9DF2-4193-8CCF-EA90774D3F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0900F8-6A2F-4DBC-B82E-660F8BE57E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D04E2A-723E-4A01-B234-DDB45F6C9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22C45C-8E62-4932-97D0-B5134B30F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3F2DD-C414-417A-A84A-37C1D30847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A71096-AC64-470E-A491-8DD3B87B0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D38AD3-2C14-49F4-9DFC-2344EA48F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95209-AF5D-4F00-8CE7-F91FCF89D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0D821-5A16-4D7A-9DFD-5F3F2AF2B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4F969C-057B-4C9C-8A2B-1224FD434A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E5DD7-2754-41C4-931F-FB599EDC859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2.xml"/><Relationship Id="rId5"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1.xml"/><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2.xml"/><Relationship Id="rId3" Type="http://schemas.openxmlformats.org/officeDocument/2006/relationships/slide" Target="slide13.xml"/><Relationship Id="rId4" Type="http://schemas.openxmlformats.org/officeDocument/2006/relationships/slide" Target="slide12.xm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1.xm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4.xm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6.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4.xml"/><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slide" Target="slide18.xml"/><Relationship Id="rId4" Type="http://schemas.openxmlformats.org/officeDocument/2006/relationships/slide" Target="slide18.xml"/><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17.xml"/><Relationship Id="rId5"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1.xml"/><Relationship Id="rId3" Type="http://schemas.openxmlformats.org/officeDocument/2006/relationships/slide" Target="slide21.xm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8.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9.xml"/><Relationship Id="rId3" Type="http://schemas.openxmlformats.org/officeDocument/2006/relationships/slide" Target="slide10.xml"/><Relationship Id="rId4" Type="http://schemas.openxmlformats.org/officeDocument/2006/relationships/slide" Target="slide9.xm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4.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943680"/>
          </a:xfrm>
          <a:prstGeom prst="rect">
            <a:avLst/>
          </a:prstGeom>
          <a:ln w="0">
            <a:noFill/>
          </a:ln>
        </p:spPr>
      </p:pic>
      <p:sp>
        <p:nvSpPr>
          <p:cNvPr id="4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a:hlinkClick r:id="rId4" action="ppaction://hlinksldjump"/>
          </p:cNvPr>
          <p:cNvSpPr/>
          <p:nvPr/>
        </p:nvSpPr>
        <p:spPr>
          <a:xfrm>
            <a:off x="0" y="0"/>
            <a:ext cx="2895480" cy="151704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was the </a:t>
            </a:r>
            <a:r>
              <a:rPr b="1" lang="en-US" sz="2400" spc="-1" strike="noStrike">
                <a:solidFill>
                  <a:srgbClr val="000000"/>
                </a:solidFill>
                <a:latin typeface="Arial"/>
              </a:rPr>
              <a:t>Triangular Trade</a:t>
            </a:r>
            <a:r>
              <a:rPr b="0" lang="en-US" sz="2400" spc="-1" strike="noStrike">
                <a:solidFill>
                  <a:srgbClr val="000000"/>
                </a:solidFill>
                <a:latin typeface="Arial"/>
              </a:rPr>
              <a: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to begin Quiz…..</a:t>
            </a:r>
            <a:endParaRPr b="0" lang="en-US" sz="18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43680"/>
          </a:xfrm>
          <a:prstGeom prst="rect">
            <a:avLst/>
          </a:prstGeom>
          <a:ln w="0">
            <a:noFill/>
          </a:ln>
        </p:spPr>
      </p:pic>
      <p:sp>
        <p:nvSpPr>
          <p:cNvPr id="10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08" name="">
            <a:hlinkClick r:id="rId2" action="ppaction://hlinksldjump"/>
          </p:cNvPr>
          <p:cNvSpPr/>
          <p:nvPr/>
        </p:nvSpPr>
        <p:spPr>
          <a:xfrm>
            <a:off x="0" y="0"/>
            <a:ext cx="2133720" cy="156456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808080"/>
                </a:solidFill>
                <a:latin typeface="Century Gothic"/>
              </a:rPr>
              <a:t>Click here for the next question.</a:t>
            </a:r>
            <a:r>
              <a:rPr b="0" lang="en-GB" sz="2400" spc="-1" strike="noStrike">
                <a:solidFill>
                  <a:srgbClr val="000000"/>
                </a:solidFill>
                <a:latin typeface="Century Gothic"/>
              </a:rPr>
              <a:t> </a:t>
            </a:r>
            <a:endParaRPr b="0" lang="en-US" sz="2400" spc="-1" strike="noStrike">
              <a:solidFill>
                <a:srgbClr val="000000"/>
              </a:solidFill>
              <a:latin typeface="Arial"/>
            </a:endParaRPr>
          </a:p>
        </p:txBody>
      </p:sp>
      <p:sp>
        <p:nvSpPr>
          <p:cNvPr id="10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14"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1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1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graphicFrame>
        <p:nvGraphicFramePr>
          <p:cNvPr id="118" name=""/>
          <p:cNvGraphicFramePr/>
          <p:nvPr/>
        </p:nvGraphicFramePr>
        <p:xfrm>
          <a:off x="457200" y="1371600"/>
          <a:ext cx="7924680" cy="1515960"/>
        </p:xfrm>
        <a:graphic>
          <a:graphicData uri="http://schemas.openxmlformats.org/drawingml/2006/table">
            <a:tbl>
              <a:tblPr/>
              <a:tblGrid>
                <a:gridCol w="7924680"/>
              </a:tblGrid>
              <a:tr h="1522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Never can so much misery be found condensed in so small a place as in a slave ship during the middle passage’</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Century Gothic"/>
                        </a:rPr>
                        <a:t>William Wilberforce</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graphicFrame>
        <p:nvGraphicFramePr>
          <p:cNvPr id="119" name=""/>
          <p:cNvGraphicFramePr/>
          <p:nvPr/>
        </p:nvGraphicFramePr>
        <p:xfrm>
          <a:off x="0" y="5257800"/>
          <a:ext cx="8305920" cy="1698480"/>
        </p:xfrm>
        <a:graphic>
          <a:graphicData uri="http://schemas.openxmlformats.org/drawingml/2006/table">
            <a:tbl>
              <a:tblPr/>
              <a:tblGrid>
                <a:gridCol w="8305920"/>
              </a:tblGrid>
              <a:tr h="20408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entury Gothic"/>
                        </a:rPr>
                        <a:t>“</a:t>
                      </a:r>
                      <a:r>
                        <a:rPr b="0" i="1" lang="en-GB" sz="2400" spc="-1" strike="noStrike">
                          <a:solidFill>
                            <a:srgbClr val="000000"/>
                          </a:solidFill>
                          <a:latin typeface="Century Gothic"/>
                        </a:rPr>
                        <a:t>This trade was so considerable that, while it was in a flourishing state, there were above 20,000 Negroes yearly exported from Guinea Coast.”</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entury Gothic"/>
                        </a:rPr>
                        <a:t> </a:t>
                      </a:r>
                      <a:r>
                        <a:rPr b="0" lang="en-GB" sz="1800" spc="-1" strike="noStrike">
                          <a:solidFill>
                            <a:srgbClr val="000000"/>
                          </a:solidFill>
                          <a:latin typeface="Century Gothic"/>
                        </a:rPr>
                        <a:t>Captain William Snelgrave 1754</a:t>
                      </a:r>
                      <a:endParaRPr b="0" lang="en-US" sz="1800" spc="-1" strike="noStrike">
                        <a:solidFill>
                          <a:srgbClr val="000000"/>
                        </a:solidFill>
                        <a:latin typeface="Arial"/>
                      </a:endParaRPr>
                    </a:p>
                  </a:txBody>
                  <a:tcPr anchor="t" marL="90000" marR="90000">
                    <a:lnL>
                      <a:noFill/>
                    </a:lnL>
                    <a:lnR>
                      <a:noFill/>
                    </a:lnR>
                    <a:lnT>
                      <a:noFill/>
                    </a:lnT>
                    <a:lnB>
                      <a:noFill/>
                    </a:lnB>
                    <a:solidFill>
                      <a:srgbClr val="ffffff">
                        <a:alpha val="80000"/>
                      </a:srgbClr>
                    </a:solidFill>
                  </a:tcPr>
                </a:tc>
              </a:tr>
            </a:tbl>
          </a:graphicData>
        </a:graphic>
      </p:graphicFrame>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943680"/>
          </a:xfrm>
          <a:prstGeom prst="rect">
            <a:avLst/>
          </a:prstGeom>
          <a:ln w="0">
            <a:noFill/>
          </a:ln>
        </p:spPr>
      </p:pic>
      <p:sp>
        <p:nvSpPr>
          <p:cNvPr id="12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22"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out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2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28"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29"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30"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3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3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943680"/>
          </a:xfrm>
          <a:prstGeom prst="rect">
            <a:avLst/>
          </a:prstGeom>
          <a:ln w="0">
            <a:noFill/>
          </a:ln>
        </p:spPr>
      </p:pic>
      <p:sp>
        <p:nvSpPr>
          <p:cNvPr id="135"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8" name="" descr=""/>
          <p:cNvPicPr/>
          <p:nvPr/>
        </p:nvPicPr>
        <p:blipFill>
          <a:blip r:embed="rId1"/>
          <a:stretch/>
        </p:blipFill>
        <p:spPr>
          <a:xfrm>
            <a:off x="0" y="0"/>
            <a:ext cx="9144000" cy="6943680"/>
          </a:xfrm>
          <a:prstGeom prst="rect">
            <a:avLst/>
          </a:prstGeom>
          <a:ln w="0">
            <a:noFill/>
          </a:ln>
        </p:spPr>
      </p:pic>
      <p:sp>
        <p:nvSpPr>
          <p:cNvPr id="13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40" name="">
            <a:hlinkClick r:id="rId2" action="ppaction://hlinksldjump"/>
          </p:cNvPr>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4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4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47"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48"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
        <p:nvSpPr>
          <p:cNvPr id="150" name=""/>
          <p:cNvSpPr/>
          <p:nvPr/>
        </p:nvSpPr>
        <p:spPr>
          <a:xfrm>
            <a:off x="0" y="2413080"/>
            <a:ext cx="3902040" cy="45345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hips known as ‘</a:t>
            </a:r>
            <a:r>
              <a:rPr b="0" i="1" lang="en-GB" sz="2400" spc="-1" strike="noStrike">
                <a:solidFill>
                  <a:srgbClr val="000000"/>
                </a:solidFill>
                <a:latin typeface="Arial"/>
              </a:rPr>
              <a:t>slavers’</a:t>
            </a:r>
            <a:r>
              <a:rPr b="0" lang="en-GB" sz="2400" spc="-1" strike="noStrike">
                <a:solidFill>
                  <a:srgbClr val="000000"/>
                </a:solidFill>
                <a:latin typeface="Arial"/>
              </a:rPr>
              <a:t> left British ports such as London, Bristol and Liverpool for West Africa loaded with trade goods. These would include guns, gunpowder and ammunition, brass and ironware, alcohol, cotton cloth, glass beads and trinkets.</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 descr=""/>
          <p:cNvPicPr/>
          <p:nvPr/>
        </p:nvPicPr>
        <p:blipFill>
          <a:blip r:embed="rId1"/>
          <a:stretch/>
        </p:blipFill>
        <p:spPr>
          <a:xfrm>
            <a:off x="0" y="0"/>
            <a:ext cx="9144000" cy="6943680"/>
          </a:xfrm>
          <a:prstGeom prst="rect">
            <a:avLst/>
          </a:prstGeom>
          <a:ln w="0">
            <a:noFill/>
          </a:ln>
        </p:spPr>
      </p:pic>
      <p:sp>
        <p:nvSpPr>
          <p:cNvPr id="152"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53"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Europe to Africa?</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154"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159"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160"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161"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162"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63"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64"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943680"/>
          </a:xfrm>
          <a:prstGeom prst="rect">
            <a:avLst/>
          </a:prstGeom>
          <a:ln w="0">
            <a:noFill/>
          </a:ln>
        </p:spPr>
      </p:pic>
      <p:sp>
        <p:nvSpPr>
          <p:cNvPr id="167"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9" name="">
            <a:hlinkClick r:id="rId4" action="ppaction://hlinksldjump"/>
          </p:cNvPr>
          <p:cNvSpPr/>
          <p:nvPr/>
        </p:nvSpPr>
        <p:spPr>
          <a:xfrm>
            <a:off x="20520" y="0"/>
            <a:ext cx="289584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0" name="" descr=""/>
          <p:cNvPicPr/>
          <p:nvPr/>
        </p:nvPicPr>
        <p:blipFill>
          <a:blip r:embed="rId1"/>
          <a:stretch/>
        </p:blipFill>
        <p:spPr>
          <a:xfrm>
            <a:off x="0" y="0"/>
            <a:ext cx="9144000" cy="6943680"/>
          </a:xfrm>
          <a:prstGeom prst="rect">
            <a:avLst/>
          </a:prstGeom>
          <a:ln w="0">
            <a:noFill/>
          </a:ln>
        </p:spPr>
      </p:pic>
      <p:sp>
        <p:nvSpPr>
          <p:cNvPr id="171"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72"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173"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4"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5"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6"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7"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178"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179"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180"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181"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8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3"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tretch/>
        </p:blipFill>
        <p:spPr>
          <a:xfrm>
            <a:off x="0" y="0"/>
            <a:ext cx="9144000" cy="6943680"/>
          </a:xfrm>
          <a:prstGeom prst="rect">
            <a:avLst/>
          </a:prstGeom>
          <a:ln w="0">
            <a:noFill/>
          </a:ln>
        </p:spPr>
      </p:pic>
      <p:sp>
        <p:nvSpPr>
          <p:cNvPr id="185"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186"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Homeward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187"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9"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0"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a:hlinkClick r:id="rId2" action="ppaction://hlinksldjump"/>
          </p:cNvPr>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192" name="">
            <a:hlinkClick r:id="rId3"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193"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194" name="">
            <a:hlinkClick r:id="rId4" action="ppaction://hlinksldjump"/>
          </p:cNvPr>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9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19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0" y="0"/>
            <a:ext cx="9144000" cy="6943680"/>
          </a:xfrm>
          <a:prstGeom prst="rect">
            <a:avLst/>
          </a:prstGeom>
          <a:ln w="0">
            <a:noFill/>
          </a:ln>
        </p:spPr>
      </p:pic>
      <p:sp>
        <p:nvSpPr>
          <p:cNvPr id="199"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0"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1"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0" y="0"/>
            <a:ext cx="9144000" cy="6943680"/>
          </a:xfrm>
          <a:prstGeom prst="rect">
            <a:avLst/>
          </a:prstGeom>
          <a:ln w="0">
            <a:noFill/>
          </a:ln>
        </p:spPr>
      </p:pic>
      <p:sp>
        <p:nvSpPr>
          <p:cNvPr id="20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04" name=""/>
          <p:cNvSpPr/>
          <p:nvPr/>
        </p:nvSpPr>
        <p:spPr>
          <a:xfrm>
            <a:off x="7543800" y="11430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05" name=""/>
          <p:cNvSpPr/>
          <p:nvPr/>
        </p:nvSpPr>
        <p:spPr>
          <a:xfrm>
            <a:off x="0" y="0"/>
            <a:ext cx="274320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the next question.</a:t>
            </a:r>
            <a:endParaRPr b="0" lang="en-US" sz="1800" spc="-1" strike="noStrike">
              <a:solidFill>
                <a:srgbClr val="000000"/>
              </a:solidFill>
              <a:latin typeface="Arial"/>
            </a:endParaRPr>
          </a:p>
        </p:txBody>
      </p:sp>
      <p:sp>
        <p:nvSpPr>
          <p:cNvPr id="206"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8"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0"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11"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12"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13"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144000" cy="6943680"/>
          </a:xfrm>
          <a:prstGeom prst="rect">
            <a:avLst/>
          </a:prstGeom>
          <a:ln w="0">
            <a:noFill/>
          </a:ln>
        </p:spPr>
      </p:pic>
      <p:sp>
        <p:nvSpPr>
          <p:cNvPr id="46"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0" y="-42840"/>
            <a:ext cx="289548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0000"/>
                </a:solidFill>
                <a:latin typeface="Arial"/>
              </a:rPr>
              <a:t>Triangular Trade</a:t>
            </a:r>
            <a:r>
              <a:rPr b="0" lang="en-US" sz="2400" spc="-1" strike="noStrike">
                <a:solidFill>
                  <a:srgbClr val="000000"/>
                </a:solidFill>
                <a:latin typeface="Arial"/>
              </a:rPr>
              <a:t> was a trade route between three different places. What were they?</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on one of the places</a:t>
            </a:r>
            <a:endParaRPr b="0" lang="en-US" sz="1800" spc="-1" strike="noStrike">
              <a:solidFill>
                <a:srgbClr val="000000"/>
              </a:solidFill>
              <a:latin typeface="Arial"/>
            </a:endParaRPr>
          </a:p>
        </p:txBody>
      </p:sp>
      <p:sp>
        <p:nvSpPr>
          <p:cNvPr id="48"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0" y="0"/>
            <a:ext cx="9144000" cy="6943680"/>
          </a:xfrm>
          <a:prstGeom prst="rect">
            <a:avLst/>
          </a:prstGeom>
          <a:ln w="0">
            <a:noFill/>
          </a:ln>
        </p:spPr>
      </p:pic>
      <p:sp>
        <p:nvSpPr>
          <p:cNvPr id="21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Africa</a:t>
            </a:r>
            <a:endParaRPr b="0" lang="en-US" sz="2400" spc="-1" strike="noStrike">
              <a:solidFill>
                <a:srgbClr val="000000"/>
              </a:solidFill>
              <a:latin typeface="Arial"/>
            </a:endParaRPr>
          </a:p>
        </p:txBody>
      </p:sp>
      <p:sp>
        <p:nvSpPr>
          <p:cNvPr id="217" name=""/>
          <p:cNvSpPr/>
          <p:nvPr/>
        </p:nvSpPr>
        <p:spPr>
          <a:xfrm>
            <a:off x="0" y="0"/>
            <a:ext cx="2743200" cy="27057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The Caribbean to Europe?</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218"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9"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0"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1"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Middle Passage</a:t>
            </a:r>
            <a:endParaRPr b="0" lang="en-US" sz="1600" spc="-1" strike="noStrike">
              <a:solidFill>
                <a:srgbClr val="000000"/>
              </a:solidFill>
              <a:latin typeface="Arial"/>
            </a:endParaRPr>
          </a:p>
        </p:txBody>
      </p:sp>
      <p:sp>
        <p:nvSpPr>
          <p:cNvPr id="223"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224"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225" name=""/>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226"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8080"/>
                </a:solidFill>
                <a:latin typeface="Arial"/>
              </a:rPr>
              <a:t>Outward Passage</a:t>
            </a:r>
            <a:endParaRPr b="0" lang="en-US" sz="1600" spc="-1" strike="noStrike">
              <a:solidFill>
                <a:srgbClr val="000000"/>
              </a:solidFill>
              <a:latin typeface="Arial"/>
            </a:endParaRPr>
          </a:p>
        </p:txBody>
      </p:sp>
      <p:sp>
        <p:nvSpPr>
          <p:cNvPr id="22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28"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29"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0"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1" name="" descr=""/>
          <p:cNvPicPr/>
          <p:nvPr/>
        </p:nvPicPr>
        <p:blipFill>
          <a:blip r:embed="rId1"/>
          <a:stretch/>
        </p:blipFill>
        <p:spPr>
          <a:xfrm>
            <a:off x="0" y="0"/>
            <a:ext cx="9144000" cy="6943680"/>
          </a:xfrm>
          <a:prstGeom prst="rect">
            <a:avLst/>
          </a:prstGeom>
          <a:ln w="0">
            <a:noFill/>
          </a:ln>
        </p:spPr>
      </p:pic>
      <p:sp>
        <p:nvSpPr>
          <p:cNvPr id="232"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3"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4"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 descr=""/>
          <p:cNvPicPr/>
          <p:nvPr/>
        </p:nvPicPr>
        <p:blipFill>
          <a:blip r:embed="rId1"/>
          <a:stretch/>
        </p:blipFill>
        <p:spPr>
          <a:xfrm>
            <a:off x="0" y="0"/>
            <a:ext cx="9144000" cy="6943680"/>
          </a:xfrm>
          <a:prstGeom prst="rect">
            <a:avLst/>
          </a:prstGeom>
          <a:ln w="0">
            <a:noFill/>
          </a:ln>
        </p:spPr>
      </p:pic>
      <p:sp>
        <p:nvSpPr>
          <p:cNvPr id="236"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3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38" name=""/>
          <p:cNvSpPr/>
          <p:nvPr/>
        </p:nvSpPr>
        <p:spPr>
          <a:xfrm>
            <a:off x="0" y="0"/>
            <a:ext cx="2743200" cy="87696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a:t>
            </a:r>
            <a:endParaRPr b="0" lang="en-US" sz="1800" spc="-1" strike="noStrike">
              <a:solidFill>
                <a:srgbClr val="000000"/>
              </a:solidFill>
              <a:latin typeface="Arial"/>
            </a:endParaRPr>
          </a:p>
        </p:txBody>
      </p:sp>
      <p:sp>
        <p:nvSpPr>
          <p:cNvPr id="23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44"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45"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46"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47"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48"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4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5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a:off x="0" y="5381640"/>
            <a:ext cx="5486400" cy="1557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1783 the Pinney’s Mountravers plantation on the island of Nevis was producing about 30,000 kg of sugar a year and 33,000 litres of rum.</a:t>
            </a:r>
            <a:endParaRPr b="0" lang="en-US" sz="2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2" name="" descr=""/>
          <p:cNvPicPr/>
          <p:nvPr/>
        </p:nvPicPr>
        <p:blipFill>
          <a:blip r:embed="rId1"/>
          <a:stretch/>
        </p:blipFill>
        <p:spPr>
          <a:xfrm>
            <a:off x="0" y="0"/>
            <a:ext cx="9144000" cy="6943680"/>
          </a:xfrm>
          <a:prstGeom prst="rect">
            <a:avLst/>
          </a:prstGeom>
          <a:ln w="0">
            <a:noFill/>
          </a:ln>
        </p:spPr>
      </p:pic>
      <p:sp>
        <p:nvSpPr>
          <p:cNvPr id="253"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254"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255"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6"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7"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8"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9"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260" name=""/>
          <p:cNvSpPr/>
          <p:nvPr/>
        </p:nvSpPr>
        <p:spPr>
          <a:xfrm rot="18937200">
            <a:off x="4614840" y="2168280"/>
            <a:ext cx="194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Outward Passage</a:t>
            </a:r>
            <a:endParaRPr b="0" lang="en-US" sz="1600" spc="-1" strike="noStrike">
              <a:solidFill>
                <a:srgbClr val="000000"/>
              </a:solidFill>
              <a:latin typeface="Arial"/>
            </a:endParaRPr>
          </a:p>
        </p:txBody>
      </p:sp>
      <p:sp>
        <p:nvSpPr>
          <p:cNvPr id="261" name=""/>
          <p:cNvSpPr/>
          <p:nvPr/>
        </p:nvSpPr>
        <p:spPr>
          <a:xfrm rot="1535400">
            <a:off x="3630240" y="4407840"/>
            <a:ext cx="195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Enslaved Africans</a:t>
            </a:r>
            <a:endParaRPr b="0" lang="en-US" sz="1600" spc="-1" strike="noStrike">
              <a:solidFill>
                <a:srgbClr val="000000"/>
              </a:solidFill>
              <a:latin typeface="Arial"/>
            </a:endParaRPr>
          </a:p>
        </p:txBody>
      </p:sp>
      <p:sp>
        <p:nvSpPr>
          <p:cNvPr id="262" name=""/>
          <p:cNvSpPr/>
          <p:nvPr/>
        </p:nvSpPr>
        <p:spPr>
          <a:xfrm rot="19036800">
            <a:off x="5268600" y="2085480"/>
            <a:ext cx="21016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Manufactured Goods</a:t>
            </a:r>
            <a:endParaRPr b="0" lang="en-US" sz="1600" spc="-1" strike="noStrike">
              <a:solidFill>
                <a:srgbClr val="000000"/>
              </a:solidFill>
              <a:latin typeface="Arial"/>
            </a:endParaRPr>
          </a:p>
        </p:txBody>
      </p:sp>
      <p:sp>
        <p:nvSpPr>
          <p:cNvPr id="263" name=""/>
          <p:cNvSpPr/>
          <p:nvPr/>
        </p:nvSpPr>
        <p:spPr>
          <a:xfrm rot="19637400">
            <a:off x="2925720" y="2085480"/>
            <a:ext cx="20718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Homeward Passage</a:t>
            </a:r>
            <a:endParaRPr b="0" lang="en-US" sz="1600" spc="-1" strike="noStrike">
              <a:solidFill>
                <a:srgbClr val="000000"/>
              </a:solidFill>
              <a:latin typeface="Arial"/>
            </a:endParaRPr>
          </a:p>
        </p:txBody>
      </p:sp>
      <p:sp>
        <p:nvSpPr>
          <p:cNvPr id="264" name=""/>
          <p:cNvSpPr/>
          <p:nvPr/>
        </p:nvSpPr>
        <p:spPr>
          <a:xfrm rot="19504200">
            <a:off x="2448000" y="1895400"/>
            <a:ext cx="17366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00"/>
                </a:solidFill>
                <a:latin typeface="Century Gothic"/>
              </a:rPr>
              <a:t>Raw Materials</a:t>
            </a:r>
            <a:endParaRPr b="0" lang="en-US" sz="1600" spc="-1" strike="noStrike">
              <a:solidFill>
                <a:srgbClr val="000000"/>
              </a:solidFill>
              <a:latin typeface="Arial"/>
            </a:endParaRPr>
          </a:p>
        </p:txBody>
      </p:sp>
      <p:sp>
        <p:nvSpPr>
          <p:cNvPr id="26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266"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7" name=""/>
          <p:cNvSpPr/>
          <p:nvPr/>
        </p:nvSpPr>
        <p:spPr>
          <a:xfrm>
            <a:off x="0" y="0"/>
            <a:ext cx="4419720" cy="2654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hard labour of enslaved Africans led to great wealth and riches for European countries, particularly Britain which traded in sugar, tobacco and cotton produced by slaves on plantations. </a:t>
            </a:r>
            <a:r>
              <a:rPr b="0" i="1" lang="en-GB" sz="1800" spc="-1" strike="noStrike">
                <a:solidFill>
                  <a:srgbClr val="808080"/>
                </a:solidFill>
                <a:latin typeface="Century Gothic"/>
              </a:rPr>
              <a:t>.</a:t>
            </a:r>
            <a:endParaRPr b="0" lang="en-US" sz="18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0"/>
            <a:ext cx="9144000" cy="6943680"/>
          </a:xfrm>
          <a:prstGeom prst="rect">
            <a:avLst/>
          </a:prstGeom>
          <a:ln w="0">
            <a:noFill/>
          </a:ln>
        </p:spPr>
      </p:pic>
      <p:sp>
        <p:nvSpPr>
          <p:cNvPr id="50" name=""/>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943680"/>
          </a:xfrm>
          <a:prstGeom prst="rect">
            <a:avLst/>
          </a:prstGeom>
          <a:ln w="0">
            <a:noFill/>
          </a:ln>
        </p:spPr>
      </p:pic>
      <p:sp>
        <p:nvSpPr>
          <p:cNvPr id="54"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55"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56" name=""/>
          <p:cNvSpPr/>
          <p:nvPr/>
        </p:nvSpPr>
        <p:spPr>
          <a:xfrm>
            <a:off x="0" y="0"/>
            <a:ext cx="2133720" cy="11512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rrec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Arial"/>
              </a:rPr>
              <a:t>Click here for your next question.</a:t>
            </a:r>
            <a:endParaRPr b="0" lang="en-US" sz="1800" spc="-1" strike="noStrike">
              <a:solidFill>
                <a:srgbClr val="000000"/>
              </a:solidFill>
              <a:latin typeface="Arial"/>
            </a:endParaRPr>
          </a:p>
        </p:txBody>
      </p:sp>
      <p:sp>
        <p:nvSpPr>
          <p:cNvPr id="57"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943680"/>
          </a:xfrm>
          <a:prstGeom prst="rect">
            <a:avLst/>
          </a:prstGeom>
          <a:ln w="0">
            <a:noFill/>
          </a:ln>
        </p:spPr>
      </p:pic>
      <p:sp>
        <p:nvSpPr>
          <p:cNvPr id="5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60" name=""/>
          <p:cNvSpPr/>
          <p:nvPr/>
        </p:nvSpPr>
        <p:spPr>
          <a:xfrm>
            <a:off x="0" y="0"/>
            <a:ext cx="3352680" cy="1608480"/>
          </a:xfrm>
          <a:prstGeom prst="rect">
            <a:avLst/>
          </a:prstGeom>
          <a:solidFill>
            <a:srgbClr val="ffffff">
              <a:alpha val="7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ich journey was known as the </a:t>
            </a:r>
            <a:r>
              <a:rPr b="1" lang="en-GB" sz="2400" spc="-1" strike="noStrike">
                <a:solidFill>
                  <a:srgbClr val="000000"/>
                </a:solidFill>
                <a:latin typeface="Century Gothic"/>
              </a:rPr>
              <a:t>middle passage</a:t>
            </a:r>
            <a:r>
              <a:rPr b="0" lang="en-GB" sz="2400" spc="-1" strike="noStrike">
                <a:solidFill>
                  <a:srgbClr val="000000"/>
                </a:solidFill>
                <a:latin typeface="Century Gothic"/>
              </a:rPr>
              <a:t>?</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letter….</a:t>
            </a:r>
            <a:endParaRPr b="0" lang="en-US" sz="1800" spc="-1" strike="noStrike">
              <a:solidFill>
                <a:srgbClr val="000000"/>
              </a:solidFill>
              <a:latin typeface="Arial"/>
            </a:endParaRPr>
          </a:p>
        </p:txBody>
      </p:sp>
      <p:sp>
        <p:nvSpPr>
          <p:cNvPr id="6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5" name=""/>
          <p:cNvSpPr/>
          <p:nvPr/>
        </p:nvSpPr>
        <p:spPr>
          <a:xfrm>
            <a:off x="3618000" y="205740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66" name="">
            <a:hlinkClick r:id="rId2" action="ppaction://hlinksldjump"/>
          </p:cNvPr>
          <p:cNvSpPr/>
          <p:nvPr/>
        </p:nvSpPr>
        <p:spPr>
          <a:xfrm>
            <a:off x="5370840" y="3048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67" name=""/>
          <p:cNvSpPr/>
          <p:nvPr/>
        </p:nvSpPr>
        <p:spPr>
          <a:xfrm>
            <a:off x="4419720" y="41148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Arial"/>
            </a:endParaRPr>
          </a:p>
        </p:txBody>
      </p:sp>
      <p:sp>
        <p:nvSpPr>
          <p:cNvPr id="68" name=""/>
          <p:cNvSpPr/>
          <p:nvPr/>
        </p:nvSpPr>
        <p:spPr>
          <a:xfrm>
            <a:off x="4218480" y="3886200"/>
            <a:ext cx="400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6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Europe</a:t>
            </a:r>
            <a:endParaRPr b="0" lang="en-US" sz="2400" spc="-1" strike="noStrike">
              <a:solidFill>
                <a:srgbClr val="000000"/>
              </a:solidFill>
              <a:latin typeface="Arial"/>
            </a:endParaRPr>
          </a:p>
        </p:txBody>
      </p:sp>
      <p:sp>
        <p:nvSpPr>
          <p:cNvPr id="70" name=""/>
          <p:cNvSpPr/>
          <p:nvPr/>
        </p:nvSpPr>
        <p:spPr>
          <a:xfrm>
            <a:off x="7315200" y="571500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943680"/>
          </a:xfrm>
          <a:prstGeom prst="rect">
            <a:avLst/>
          </a:prstGeom>
          <a:ln w="0">
            <a:noFill/>
          </a:ln>
        </p:spPr>
      </p:pic>
      <p:sp>
        <p:nvSpPr>
          <p:cNvPr id="7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943680"/>
          </a:xfrm>
          <a:prstGeom prst="rect">
            <a:avLst/>
          </a:prstGeom>
          <a:ln w="0">
            <a:noFill/>
          </a:ln>
        </p:spPr>
      </p:pic>
      <p:sp>
        <p:nvSpPr>
          <p:cNvPr id="77"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78" name="">
            <a:hlinkClick r:id="rId2" action="ppaction://hlinksldjump"/>
          </p:cNvPr>
          <p:cNvSpPr/>
          <p:nvPr/>
        </p:nvSpPr>
        <p:spPr>
          <a:xfrm>
            <a:off x="0" y="0"/>
            <a:ext cx="2743200" cy="14256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entury Gothic"/>
              </a:rPr>
              <a:t>Correct.</a:t>
            </a:r>
            <a:r>
              <a:rPr b="0" lang="en-GB" sz="2400" spc="-1" strike="noStrike">
                <a:solidFill>
                  <a:srgbClr val="000000"/>
                </a:solidFill>
                <a:latin typeface="Century Gothic"/>
              </a:rPr>
              <a:t> </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here for your next question.</a:t>
            </a:r>
            <a:endParaRPr b="0" lang="en-US" sz="1800" spc="-1" strike="noStrike">
              <a:solidFill>
                <a:srgbClr val="000000"/>
              </a:solidFill>
              <a:latin typeface="Arial"/>
            </a:endParaRPr>
          </a:p>
        </p:txBody>
      </p:sp>
      <p:sp>
        <p:nvSpPr>
          <p:cNvPr id="79"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0"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1"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2"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3"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84"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85"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6"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
        <p:nvSpPr>
          <p:cNvPr id="87" name=""/>
          <p:cNvSpPr/>
          <p:nvPr/>
        </p:nvSpPr>
        <p:spPr>
          <a:xfrm>
            <a:off x="1066680" y="1752480"/>
            <a:ext cx="7315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943680"/>
          </a:xfrm>
          <a:prstGeom prst="rect">
            <a:avLst/>
          </a:prstGeom>
          <a:ln w="0">
            <a:noFill/>
          </a:ln>
        </p:spPr>
      </p:pic>
      <p:sp>
        <p:nvSpPr>
          <p:cNvPr id="89" name=""/>
          <p:cNvSpPr/>
          <p:nvPr/>
        </p:nvSpPr>
        <p:spPr>
          <a:xfrm>
            <a:off x="7086600" y="3962520"/>
            <a:ext cx="1066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Africa</a:t>
            </a:r>
            <a:endParaRPr b="0" lang="en-US" sz="2400" spc="-1" strike="noStrike">
              <a:solidFill>
                <a:srgbClr val="000000"/>
              </a:solidFill>
              <a:latin typeface="Arial"/>
            </a:endParaRPr>
          </a:p>
        </p:txBody>
      </p:sp>
      <p:sp>
        <p:nvSpPr>
          <p:cNvPr id="90" name=""/>
          <p:cNvSpPr/>
          <p:nvPr/>
        </p:nvSpPr>
        <p:spPr>
          <a:xfrm>
            <a:off x="0" y="0"/>
            <a:ext cx="2743200" cy="234000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What was carried on the ships sailing from Africa to the Caribbean?</a:t>
            </a:r>
            <a:endParaRPr b="0" lang="en-US" sz="2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808080"/>
                </a:solidFill>
                <a:latin typeface="Century Gothic"/>
              </a:rPr>
              <a:t>Click the answer….</a:t>
            </a:r>
            <a:endParaRPr b="0" lang="en-US" sz="1800" spc="-1" strike="noStrike">
              <a:solidFill>
                <a:srgbClr val="000000"/>
              </a:solidFill>
              <a:latin typeface="Arial"/>
            </a:endParaRPr>
          </a:p>
        </p:txBody>
      </p:sp>
      <p:sp>
        <p:nvSpPr>
          <p:cNvPr id="91" name=""/>
          <p:cNvSpPr/>
          <p:nvPr/>
        </p:nvSpPr>
        <p:spPr>
          <a:xfrm>
            <a:off x="5308560" y="1371600"/>
            <a:ext cx="2311560" cy="5334120"/>
          </a:xfrm>
          <a:custGeom>
            <a:avLst/>
            <a:gdLst/>
            <a:ahLst/>
            <a:rect l="l" t="t" r="r" b="b"/>
            <a:pathLst>
              <a:path w="1456" h="3360">
                <a:moveTo>
                  <a:pt x="1120" y="0"/>
                </a:moveTo>
                <a:cubicBezTo>
                  <a:pt x="560" y="396"/>
                  <a:pt x="0" y="792"/>
                  <a:pt x="16" y="1248"/>
                </a:cubicBezTo>
                <a:cubicBezTo>
                  <a:pt x="32" y="1704"/>
                  <a:pt x="976" y="2384"/>
                  <a:pt x="1216" y="2736"/>
                </a:cubicBezTo>
                <a:cubicBezTo>
                  <a:pt x="1456" y="3088"/>
                  <a:pt x="1416" y="3248"/>
                  <a:pt x="1456" y="3360"/>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2" name=""/>
          <p:cNvSpPr/>
          <p:nvPr/>
        </p:nvSpPr>
        <p:spPr>
          <a:xfrm>
            <a:off x="7162920" y="5562720"/>
            <a:ext cx="990360" cy="35532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3" name=""/>
          <p:cNvSpPr/>
          <p:nvPr/>
        </p:nvSpPr>
        <p:spPr>
          <a:xfrm>
            <a:off x="1981080" y="3695760"/>
            <a:ext cx="5105520" cy="2400120"/>
          </a:xfrm>
          <a:custGeom>
            <a:avLst/>
            <a:gdLst/>
            <a:ahLst/>
            <a:rect l="l" t="t" r="r" b="b"/>
            <a:pathLst>
              <a:path w="3216" h="1512">
                <a:moveTo>
                  <a:pt x="3216" y="1512"/>
                </a:moveTo>
                <a:cubicBezTo>
                  <a:pt x="2976" y="1268"/>
                  <a:pt x="2736" y="1024"/>
                  <a:pt x="2352" y="792"/>
                </a:cubicBezTo>
                <a:cubicBezTo>
                  <a:pt x="1968" y="560"/>
                  <a:pt x="1304" y="240"/>
                  <a:pt x="912" y="120"/>
                </a:cubicBezTo>
                <a:cubicBezTo>
                  <a:pt x="520" y="0"/>
                  <a:pt x="260" y="36"/>
                  <a:pt x="0" y="72"/>
                </a:cubicBezTo>
              </a:path>
            </a:pathLst>
          </a:custGeom>
          <a:noFill/>
          <a:ln w="57240">
            <a:solidFill>
              <a:srgbClr val="ff000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4" name=""/>
          <p:cNvSpPr/>
          <p:nvPr/>
        </p:nvSpPr>
        <p:spPr>
          <a:xfrm>
            <a:off x="2133720" y="1066680"/>
            <a:ext cx="4647960" cy="2438640"/>
          </a:xfrm>
          <a:custGeom>
            <a:avLst/>
            <a:gdLst/>
            <a:ahLst/>
            <a:rect l="l" t="t" r="r" b="b"/>
            <a:pathLst>
              <a:path w="2928" h="1536">
                <a:moveTo>
                  <a:pt x="0" y="1536"/>
                </a:moveTo>
                <a:cubicBezTo>
                  <a:pt x="316" y="1200"/>
                  <a:pt x="632" y="864"/>
                  <a:pt x="1008" y="624"/>
                </a:cubicBezTo>
                <a:cubicBezTo>
                  <a:pt x="1384" y="384"/>
                  <a:pt x="1936" y="192"/>
                  <a:pt x="2256" y="96"/>
                </a:cubicBezTo>
                <a:cubicBezTo>
                  <a:pt x="2576" y="0"/>
                  <a:pt x="2816" y="56"/>
                  <a:pt x="2928" y="48"/>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5" name=""/>
          <p:cNvSpPr/>
          <p:nvPr/>
        </p:nvSpPr>
        <p:spPr>
          <a:xfrm rot="1578600">
            <a:off x="3962160" y="4083120"/>
            <a:ext cx="16761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rPr>
              <a:t>Middle Passage</a:t>
            </a:r>
            <a:endParaRPr b="0" lang="en-US" sz="1600" spc="-1" strike="noStrike">
              <a:solidFill>
                <a:srgbClr val="000000"/>
              </a:solidFill>
              <a:latin typeface="Arial"/>
            </a:endParaRPr>
          </a:p>
        </p:txBody>
      </p:sp>
      <p:sp>
        <p:nvSpPr>
          <p:cNvPr id="96" name="">
            <a:hlinkClick r:id="rId2" action="ppaction://hlinksldjump"/>
          </p:cNvPr>
          <p:cNvSpPr/>
          <p:nvPr/>
        </p:nvSpPr>
        <p:spPr>
          <a:xfrm>
            <a:off x="76320" y="6400800"/>
            <a:ext cx="3504960" cy="4597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Manufactured Goods</a:t>
            </a:r>
            <a:endParaRPr b="0" lang="en-US" sz="2400" spc="-1" strike="noStrike">
              <a:solidFill>
                <a:srgbClr val="000000"/>
              </a:solidFill>
              <a:latin typeface="Arial"/>
            </a:endParaRPr>
          </a:p>
        </p:txBody>
      </p:sp>
      <p:sp>
        <p:nvSpPr>
          <p:cNvPr id="97" name="">
            <a:hlinkClick r:id="rId3" action="ppaction://hlinksldjump"/>
          </p:cNvPr>
          <p:cNvSpPr/>
          <p:nvPr/>
        </p:nvSpPr>
        <p:spPr>
          <a:xfrm>
            <a:off x="3886200" y="6400800"/>
            <a:ext cx="266688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Enslaved People</a:t>
            </a:r>
            <a:endParaRPr b="0" lang="en-US" sz="2400" spc="-1" strike="noStrike">
              <a:solidFill>
                <a:srgbClr val="000000"/>
              </a:solidFill>
              <a:latin typeface="Arial"/>
            </a:endParaRPr>
          </a:p>
        </p:txBody>
      </p:sp>
      <p:sp>
        <p:nvSpPr>
          <p:cNvPr id="98" name="">
            <a:hlinkClick r:id="rId4" action="ppaction://hlinksldjump"/>
          </p:cNvPr>
          <p:cNvSpPr/>
          <p:nvPr/>
        </p:nvSpPr>
        <p:spPr>
          <a:xfrm>
            <a:off x="6858000" y="6400800"/>
            <a:ext cx="2286000" cy="82548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entury Gothic"/>
              </a:rPr>
              <a:t>Raw Materials</a:t>
            </a:r>
            <a:endParaRPr b="0" lang="en-US" sz="2400" spc="-1" strike="noStrike">
              <a:solidFill>
                <a:srgbClr val="000000"/>
              </a:solidFill>
              <a:latin typeface="Arial"/>
            </a:endParaRPr>
          </a:p>
        </p:txBody>
      </p:sp>
      <p:sp>
        <p:nvSpPr>
          <p:cNvPr id="99" name=""/>
          <p:cNvSpPr/>
          <p:nvPr/>
        </p:nvSpPr>
        <p:spPr>
          <a:xfrm>
            <a:off x="7467480" y="914400"/>
            <a:ext cx="137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rPr>
              <a:t>Europe</a:t>
            </a:r>
            <a:endParaRPr b="0" lang="en-US" sz="2400" spc="-1" strike="noStrike">
              <a:solidFill>
                <a:srgbClr val="000000"/>
              </a:solidFill>
              <a:latin typeface="Arial"/>
            </a:endParaRPr>
          </a:p>
        </p:txBody>
      </p:sp>
      <p:sp>
        <p:nvSpPr>
          <p:cNvPr id="100" name=""/>
          <p:cNvSpPr/>
          <p:nvPr/>
        </p:nvSpPr>
        <p:spPr>
          <a:xfrm>
            <a:off x="5486400" y="3695760"/>
            <a:ext cx="990720" cy="355680"/>
          </a:xfrm>
          <a:custGeom>
            <a:avLst/>
            <a:gdLst/>
            <a:ahLst/>
            <a:rect l="l" t="t" r="r" b="b"/>
            <a:pathLst>
              <a:path w="624" h="224">
                <a:moveTo>
                  <a:pt x="0" y="0"/>
                </a:moveTo>
                <a:cubicBezTo>
                  <a:pt x="140" y="80"/>
                  <a:pt x="280" y="160"/>
                  <a:pt x="384" y="192"/>
                </a:cubicBezTo>
                <a:cubicBezTo>
                  <a:pt x="488" y="224"/>
                  <a:pt x="584" y="192"/>
                  <a:pt x="624" y="192"/>
                </a:cubicBezTo>
              </a:path>
            </a:pathLst>
          </a:custGeom>
          <a:noFill/>
          <a:ln w="57240">
            <a:solidFill>
              <a:srgbClr val="808080"/>
            </a:solidFill>
            <a:prstDash val="sysDot"/>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1" name=""/>
          <p:cNvSpPr/>
          <p:nvPr/>
        </p:nvSpPr>
        <p:spPr>
          <a:xfrm>
            <a:off x="853920" y="3579840"/>
            <a:ext cx="30481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The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Caribbean Islands</a:t>
            </a:r>
            <a:endParaRPr b="0" lang="en-US" sz="2400" spc="-1" strike="noStrike">
              <a:solidFill>
                <a:srgbClr val="000000"/>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43680"/>
          </a:xfrm>
          <a:prstGeom prst="rect">
            <a:avLst/>
          </a:prstGeom>
          <a:ln w="0">
            <a:noFill/>
          </a:ln>
        </p:spPr>
      </p:pic>
      <p:sp>
        <p:nvSpPr>
          <p:cNvPr id="103" name="">
            <a:hlinkClick r:id="rId2" action="ppaction://hlinksldjump"/>
          </p:cNvPr>
          <p:cNvSpPr/>
          <p:nvPr/>
        </p:nvSpPr>
        <p:spPr>
          <a:xfrm>
            <a:off x="6397560" y="2424240"/>
            <a:ext cx="2755800" cy="4491000"/>
          </a:xfrm>
          <a:custGeom>
            <a:avLst/>
            <a:gdLst/>
            <a:ahLst/>
            <a:rect l="l" t="t" r="r" b="b"/>
            <a:pathLst>
              <a:path w="1736" h="2829">
                <a:moveTo>
                  <a:pt x="1363" y="2817"/>
                </a:moveTo>
                <a:cubicBezTo>
                  <a:pt x="1359" y="2811"/>
                  <a:pt x="1349" y="2806"/>
                  <a:pt x="1351" y="2799"/>
                </a:cubicBezTo>
                <a:cubicBezTo>
                  <a:pt x="1353" y="2785"/>
                  <a:pt x="1369" y="2776"/>
                  <a:pt x="1374" y="2763"/>
                </a:cubicBezTo>
                <a:cubicBezTo>
                  <a:pt x="1376" y="2757"/>
                  <a:pt x="1376" y="2750"/>
                  <a:pt x="1380" y="2746"/>
                </a:cubicBezTo>
                <a:cubicBezTo>
                  <a:pt x="1384" y="2740"/>
                  <a:pt x="1392" y="2738"/>
                  <a:pt x="1398" y="2734"/>
                </a:cubicBezTo>
                <a:cubicBezTo>
                  <a:pt x="1405" y="2710"/>
                  <a:pt x="1413" y="2686"/>
                  <a:pt x="1422" y="2663"/>
                </a:cubicBezTo>
                <a:cubicBezTo>
                  <a:pt x="1426" y="2651"/>
                  <a:pt x="1434" y="2627"/>
                  <a:pt x="1434" y="2627"/>
                </a:cubicBezTo>
                <a:cubicBezTo>
                  <a:pt x="1426" y="2561"/>
                  <a:pt x="1433" y="2590"/>
                  <a:pt x="1416" y="2538"/>
                </a:cubicBezTo>
                <a:cubicBezTo>
                  <a:pt x="1412" y="2526"/>
                  <a:pt x="1404" y="2503"/>
                  <a:pt x="1404" y="2503"/>
                </a:cubicBezTo>
                <a:cubicBezTo>
                  <a:pt x="1422" y="2447"/>
                  <a:pt x="1387" y="2373"/>
                  <a:pt x="1374" y="2319"/>
                </a:cubicBezTo>
                <a:cubicBezTo>
                  <a:pt x="1369" y="2278"/>
                  <a:pt x="1368" y="2235"/>
                  <a:pt x="1333" y="2212"/>
                </a:cubicBezTo>
                <a:cubicBezTo>
                  <a:pt x="1320" y="2174"/>
                  <a:pt x="1297" y="2138"/>
                  <a:pt x="1274" y="2106"/>
                </a:cubicBezTo>
                <a:cubicBezTo>
                  <a:pt x="1270" y="2094"/>
                  <a:pt x="1269" y="2080"/>
                  <a:pt x="1262" y="2070"/>
                </a:cubicBezTo>
                <a:cubicBezTo>
                  <a:pt x="1258" y="2064"/>
                  <a:pt x="1252" y="2058"/>
                  <a:pt x="1250" y="2052"/>
                </a:cubicBezTo>
                <a:cubicBezTo>
                  <a:pt x="1244" y="2040"/>
                  <a:pt x="1238" y="2017"/>
                  <a:pt x="1238" y="2017"/>
                </a:cubicBezTo>
                <a:cubicBezTo>
                  <a:pt x="1251" y="1899"/>
                  <a:pt x="1234" y="2014"/>
                  <a:pt x="1256" y="1928"/>
                </a:cubicBezTo>
                <a:cubicBezTo>
                  <a:pt x="1260" y="1912"/>
                  <a:pt x="1268" y="1880"/>
                  <a:pt x="1268" y="1880"/>
                </a:cubicBezTo>
                <a:cubicBezTo>
                  <a:pt x="1259" y="1792"/>
                  <a:pt x="1265" y="1734"/>
                  <a:pt x="1173" y="1709"/>
                </a:cubicBezTo>
                <a:cubicBezTo>
                  <a:pt x="1127" y="1712"/>
                  <a:pt x="1110" y="1715"/>
                  <a:pt x="1072" y="1703"/>
                </a:cubicBezTo>
                <a:cubicBezTo>
                  <a:pt x="1064" y="1691"/>
                  <a:pt x="1060" y="1674"/>
                  <a:pt x="1049" y="1667"/>
                </a:cubicBezTo>
                <a:cubicBezTo>
                  <a:pt x="1031" y="1655"/>
                  <a:pt x="1010" y="1647"/>
                  <a:pt x="995" y="1632"/>
                </a:cubicBezTo>
                <a:cubicBezTo>
                  <a:pt x="989" y="1626"/>
                  <a:pt x="984" y="1618"/>
                  <a:pt x="977" y="1614"/>
                </a:cubicBezTo>
                <a:cubicBezTo>
                  <a:pt x="966" y="1607"/>
                  <a:pt x="953" y="1605"/>
                  <a:pt x="942" y="1602"/>
                </a:cubicBezTo>
                <a:cubicBezTo>
                  <a:pt x="936" y="1599"/>
                  <a:pt x="924" y="1596"/>
                  <a:pt x="924" y="1596"/>
                </a:cubicBezTo>
                <a:cubicBezTo>
                  <a:pt x="917" y="1597"/>
                  <a:pt x="850" y="1613"/>
                  <a:pt x="841" y="1620"/>
                </a:cubicBezTo>
                <a:cubicBezTo>
                  <a:pt x="823" y="1631"/>
                  <a:pt x="808" y="1648"/>
                  <a:pt x="788" y="1655"/>
                </a:cubicBezTo>
                <a:cubicBezTo>
                  <a:pt x="733" y="1673"/>
                  <a:pt x="764" y="1665"/>
                  <a:pt x="693" y="1673"/>
                </a:cubicBezTo>
                <a:cubicBezTo>
                  <a:pt x="592" y="1661"/>
                  <a:pt x="501" y="1686"/>
                  <a:pt x="403" y="1697"/>
                </a:cubicBezTo>
                <a:cubicBezTo>
                  <a:pt x="361" y="1692"/>
                  <a:pt x="344" y="1694"/>
                  <a:pt x="314" y="1673"/>
                </a:cubicBezTo>
                <a:cubicBezTo>
                  <a:pt x="290" y="1637"/>
                  <a:pt x="267" y="1601"/>
                  <a:pt x="243" y="1566"/>
                </a:cubicBezTo>
                <a:cubicBezTo>
                  <a:pt x="235" y="1554"/>
                  <a:pt x="232" y="1535"/>
                  <a:pt x="219" y="1531"/>
                </a:cubicBezTo>
                <a:cubicBezTo>
                  <a:pt x="213" y="1529"/>
                  <a:pt x="201" y="1525"/>
                  <a:pt x="201" y="1525"/>
                </a:cubicBezTo>
                <a:cubicBezTo>
                  <a:pt x="197" y="1519"/>
                  <a:pt x="194" y="1511"/>
                  <a:pt x="189" y="1507"/>
                </a:cubicBezTo>
                <a:cubicBezTo>
                  <a:pt x="178" y="1497"/>
                  <a:pt x="154" y="1483"/>
                  <a:pt x="154" y="1483"/>
                </a:cubicBezTo>
                <a:cubicBezTo>
                  <a:pt x="133" y="1453"/>
                  <a:pt x="112" y="1420"/>
                  <a:pt x="83" y="1400"/>
                </a:cubicBezTo>
                <a:cubicBezTo>
                  <a:pt x="71" y="1366"/>
                  <a:pt x="86" y="1398"/>
                  <a:pt x="59" y="1371"/>
                </a:cubicBezTo>
                <a:cubicBezTo>
                  <a:pt x="44" y="1356"/>
                  <a:pt x="41" y="1334"/>
                  <a:pt x="35" y="1317"/>
                </a:cubicBezTo>
                <a:cubicBezTo>
                  <a:pt x="33" y="1311"/>
                  <a:pt x="30" y="1305"/>
                  <a:pt x="29" y="1300"/>
                </a:cubicBezTo>
                <a:cubicBezTo>
                  <a:pt x="26" y="1294"/>
                  <a:pt x="25" y="1288"/>
                  <a:pt x="23" y="1282"/>
                </a:cubicBezTo>
                <a:cubicBezTo>
                  <a:pt x="21" y="1276"/>
                  <a:pt x="17" y="1264"/>
                  <a:pt x="17" y="1264"/>
                </a:cubicBezTo>
                <a:cubicBezTo>
                  <a:pt x="19" y="1256"/>
                  <a:pt x="16" y="1244"/>
                  <a:pt x="23" y="1240"/>
                </a:cubicBezTo>
                <a:cubicBezTo>
                  <a:pt x="28" y="1236"/>
                  <a:pt x="36" y="1250"/>
                  <a:pt x="41" y="1246"/>
                </a:cubicBezTo>
                <a:cubicBezTo>
                  <a:pt x="45" y="1241"/>
                  <a:pt x="37" y="1234"/>
                  <a:pt x="35" y="1229"/>
                </a:cubicBezTo>
                <a:cubicBezTo>
                  <a:pt x="27" y="1216"/>
                  <a:pt x="11" y="1193"/>
                  <a:pt x="11" y="1193"/>
                </a:cubicBezTo>
                <a:cubicBezTo>
                  <a:pt x="0" y="1156"/>
                  <a:pt x="0" y="1129"/>
                  <a:pt x="11" y="1092"/>
                </a:cubicBezTo>
                <a:cubicBezTo>
                  <a:pt x="14" y="1080"/>
                  <a:pt x="23" y="1057"/>
                  <a:pt x="23" y="1057"/>
                </a:cubicBezTo>
                <a:cubicBezTo>
                  <a:pt x="14" y="976"/>
                  <a:pt x="21" y="1018"/>
                  <a:pt x="6" y="944"/>
                </a:cubicBezTo>
                <a:cubicBezTo>
                  <a:pt x="3" y="934"/>
                  <a:pt x="0" y="914"/>
                  <a:pt x="0" y="914"/>
                </a:cubicBezTo>
                <a:cubicBezTo>
                  <a:pt x="16" y="867"/>
                  <a:pt x="10" y="813"/>
                  <a:pt x="17" y="766"/>
                </a:cubicBezTo>
                <a:cubicBezTo>
                  <a:pt x="26" y="693"/>
                  <a:pt x="51" y="651"/>
                  <a:pt x="100" y="600"/>
                </a:cubicBezTo>
                <a:cubicBezTo>
                  <a:pt x="113" y="560"/>
                  <a:pt x="94" y="604"/>
                  <a:pt x="124" y="571"/>
                </a:cubicBezTo>
                <a:cubicBezTo>
                  <a:pt x="152" y="538"/>
                  <a:pt x="173" y="497"/>
                  <a:pt x="201" y="464"/>
                </a:cubicBezTo>
                <a:cubicBezTo>
                  <a:pt x="218" y="442"/>
                  <a:pt x="219" y="414"/>
                  <a:pt x="237" y="393"/>
                </a:cubicBezTo>
                <a:cubicBezTo>
                  <a:pt x="275" y="345"/>
                  <a:pt x="317" y="299"/>
                  <a:pt x="355" y="251"/>
                </a:cubicBezTo>
                <a:cubicBezTo>
                  <a:pt x="377" y="221"/>
                  <a:pt x="399" y="165"/>
                  <a:pt x="432" y="144"/>
                </a:cubicBezTo>
                <a:cubicBezTo>
                  <a:pt x="460" y="125"/>
                  <a:pt x="505" y="106"/>
                  <a:pt x="539" y="97"/>
                </a:cubicBezTo>
                <a:cubicBezTo>
                  <a:pt x="562" y="90"/>
                  <a:pt x="595" y="86"/>
                  <a:pt x="616" y="73"/>
                </a:cubicBezTo>
                <a:cubicBezTo>
                  <a:pt x="637" y="58"/>
                  <a:pt x="661" y="47"/>
                  <a:pt x="687" y="43"/>
                </a:cubicBezTo>
                <a:cubicBezTo>
                  <a:pt x="738" y="34"/>
                  <a:pt x="716" y="37"/>
                  <a:pt x="782" y="32"/>
                </a:cubicBezTo>
                <a:cubicBezTo>
                  <a:pt x="835" y="27"/>
                  <a:pt x="942" y="20"/>
                  <a:pt x="942" y="20"/>
                </a:cubicBezTo>
                <a:cubicBezTo>
                  <a:pt x="1132" y="27"/>
                  <a:pt x="1051" y="0"/>
                  <a:pt x="1137" y="61"/>
                </a:cubicBezTo>
                <a:cubicBezTo>
                  <a:pt x="1164" y="102"/>
                  <a:pt x="1196" y="121"/>
                  <a:pt x="1238" y="144"/>
                </a:cubicBezTo>
                <a:cubicBezTo>
                  <a:pt x="1269" y="161"/>
                  <a:pt x="1292" y="187"/>
                  <a:pt x="1327" y="197"/>
                </a:cubicBezTo>
                <a:cubicBezTo>
                  <a:pt x="1367" y="223"/>
                  <a:pt x="1404" y="241"/>
                  <a:pt x="1451" y="257"/>
                </a:cubicBezTo>
                <a:cubicBezTo>
                  <a:pt x="1456" y="259"/>
                  <a:pt x="1463" y="259"/>
                  <a:pt x="1469" y="263"/>
                </a:cubicBezTo>
                <a:cubicBezTo>
                  <a:pt x="1475" y="266"/>
                  <a:pt x="1480" y="271"/>
                  <a:pt x="1487" y="274"/>
                </a:cubicBezTo>
                <a:cubicBezTo>
                  <a:pt x="1498" y="278"/>
                  <a:pt x="1523" y="286"/>
                  <a:pt x="1523" y="286"/>
                </a:cubicBezTo>
                <a:cubicBezTo>
                  <a:pt x="1553" y="307"/>
                  <a:pt x="1593" y="304"/>
                  <a:pt x="1629" y="316"/>
                </a:cubicBezTo>
                <a:cubicBezTo>
                  <a:pt x="1641" y="320"/>
                  <a:pt x="1653" y="324"/>
                  <a:pt x="1665" y="328"/>
                </a:cubicBezTo>
                <a:cubicBezTo>
                  <a:pt x="1671" y="330"/>
                  <a:pt x="1683" y="334"/>
                  <a:pt x="1683" y="334"/>
                </a:cubicBezTo>
                <a:cubicBezTo>
                  <a:pt x="1704" y="368"/>
                  <a:pt x="1689" y="409"/>
                  <a:pt x="1677" y="446"/>
                </a:cubicBezTo>
                <a:cubicBezTo>
                  <a:pt x="1680" y="499"/>
                  <a:pt x="1682" y="548"/>
                  <a:pt x="1694" y="600"/>
                </a:cubicBezTo>
                <a:cubicBezTo>
                  <a:pt x="1698" y="648"/>
                  <a:pt x="1701" y="695"/>
                  <a:pt x="1712" y="743"/>
                </a:cubicBezTo>
                <a:cubicBezTo>
                  <a:pt x="1718" y="770"/>
                  <a:pt x="1730" y="826"/>
                  <a:pt x="1730" y="826"/>
                </a:cubicBezTo>
                <a:cubicBezTo>
                  <a:pt x="1735" y="970"/>
                  <a:pt x="1727" y="1091"/>
                  <a:pt x="1700" y="1229"/>
                </a:cubicBezTo>
                <a:cubicBezTo>
                  <a:pt x="1722" y="1494"/>
                  <a:pt x="1698" y="1185"/>
                  <a:pt x="1712" y="1851"/>
                </a:cubicBezTo>
                <a:cubicBezTo>
                  <a:pt x="1712" y="1883"/>
                  <a:pt x="1731" y="1924"/>
                  <a:pt x="1736" y="1957"/>
                </a:cubicBezTo>
                <a:cubicBezTo>
                  <a:pt x="1732" y="2028"/>
                  <a:pt x="1735" y="2117"/>
                  <a:pt x="1712" y="2189"/>
                </a:cubicBezTo>
                <a:cubicBezTo>
                  <a:pt x="1705" y="2265"/>
                  <a:pt x="1719" y="2332"/>
                  <a:pt x="1730" y="2408"/>
                </a:cubicBezTo>
                <a:cubicBezTo>
                  <a:pt x="1725" y="2441"/>
                  <a:pt x="1720" y="2470"/>
                  <a:pt x="1712" y="2503"/>
                </a:cubicBezTo>
                <a:cubicBezTo>
                  <a:pt x="1707" y="2518"/>
                  <a:pt x="1700" y="2550"/>
                  <a:pt x="1700" y="2550"/>
                </a:cubicBezTo>
                <a:cubicBezTo>
                  <a:pt x="1698" y="2590"/>
                  <a:pt x="1702" y="2749"/>
                  <a:pt x="1683" y="2811"/>
                </a:cubicBezTo>
                <a:cubicBezTo>
                  <a:pt x="1680" y="2819"/>
                  <a:pt x="1653" y="2826"/>
                  <a:pt x="1647" y="2829"/>
                </a:cubicBezTo>
                <a:cubicBezTo>
                  <a:pt x="1617" y="2827"/>
                  <a:pt x="1587" y="2826"/>
                  <a:pt x="1558" y="2823"/>
                </a:cubicBezTo>
                <a:cubicBezTo>
                  <a:pt x="1535" y="2820"/>
                  <a:pt x="1493" y="2805"/>
                  <a:pt x="1493" y="2805"/>
                </a:cubicBezTo>
                <a:cubicBezTo>
                  <a:pt x="1465" y="2807"/>
                  <a:pt x="1437" y="2806"/>
                  <a:pt x="1410" y="2811"/>
                </a:cubicBezTo>
                <a:cubicBezTo>
                  <a:pt x="1397" y="2812"/>
                  <a:pt x="1374" y="2823"/>
                  <a:pt x="1374" y="2823"/>
                </a:cubicBezTo>
                <a:cubicBezTo>
                  <a:pt x="1367" y="2792"/>
                  <a:pt x="1371" y="2791"/>
                  <a:pt x="1363" y="2817"/>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4" name="">
            <a:hlinkClick r:id="rId3" action="ppaction://hlinksldjump"/>
          </p:cNvPr>
          <p:cNvSpPr/>
          <p:nvPr/>
        </p:nvSpPr>
        <p:spPr>
          <a:xfrm>
            <a:off x="1254240" y="3208320"/>
            <a:ext cx="1662120" cy="1035000"/>
          </a:xfrm>
          <a:custGeom>
            <a:avLst/>
            <a:gdLst/>
            <a:ahLst/>
            <a:rect l="l" t="t" r="r" b="b"/>
            <a:pathLst>
              <a:path w="1047" h="652">
                <a:moveTo>
                  <a:pt x="994" y="438"/>
                </a:moveTo>
                <a:cubicBezTo>
                  <a:pt x="1022" y="467"/>
                  <a:pt x="1032" y="475"/>
                  <a:pt x="1041" y="515"/>
                </a:cubicBezTo>
                <a:cubicBezTo>
                  <a:pt x="1037" y="553"/>
                  <a:pt x="1047" y="585"/>
                  <a:pt x="1011" y="598"/>
                </a:cubicBezTo>
                <a:cubicBezTo>
                  <a:pt x="995" y="609"/>
                  <a:pt x="958" y="622"/>
                  <a:pt x="958" y="622"/>
                </a:cubicBezTo>
                <a:cubicBezTo>
                  <a:pt x="947" y="620"/>
                  <a:pt x="904" y="619"/>
                  <a:pt x="887" y="610"/>
                </a:cubicBezTo>
                <a:cubicBezTo>
                  <a:pt x="844" y="586"/>
                  <a:pt x="820" y="562"/>
                  <a:pt x="774" y="551"/>
                </a:cubicBezTo>
                <a:cubicBezTo>
                  <a:pt x="762" y="555"/>
                  <a:pt x="747" y="554"/>
                  <a:pt x="739" y="563"/>
                </a:cubicBezTo>
                <a:cubicBezTo>
                  <a:pt x="717" y="583"/>
                  <a:pt x="704" y="611"/>
                  <a:pt x="674" y="622"/>
                </a:cubicBezTo>
                <a:cubicBezTo>
                  <a:pt x="637" y="634"/>
                  <a:pt x="605" y="645"/>
                  <a:pt x="567" y="652"/>
                </a:cubicBezTo>
                <a:cubicBezTo>
                  <a:pt x="507" y="642"/>
                  <a:pt x="447" y="630"/>
                  <a:pt x="389" y="616"/>
                </a:cubicBezTo>
                <a:cubicBezTo>
                  <a:pt x="379" y="613"/>
                  <a:pt x="352" y="609"/>
                  <a:pt x="342" y="604"/>
                </a:cubicBezTo>
                <a:cubicBezTo>
                  <a:pt x="329" y="596"/>
                  <a:pt x="306" y="580"/>
                  <a:pt x="306" y="580"/>
                </a:cubicBezTo>
                <a:cubicBezTo>
                  <a:pt x="286" y="552"/>
                  <a:pt x="284" y="519"/>
                  <a:pt x="265" y="492"/>
                </a:cubicBezTo>
                <a:cubicBezTo>
                  <a:pt x="244" y="431"/>
                  <a:pt x="164" y="441"/>
                  <a:pt x="117" y="438"/>
                </a:cubicBezTo>
                <a:cubicBezTo>
                  <a:pt x="93" y="422"/>
                  <a:pt x="66" y="401"/>
                  <a:pt x="57" y="373"/>
                </a:cubicBezTo>
                <a:cubicBezTo>
                  <a:pt x="51" y="356"/>
                  <a:pt x="51" y="352"/>
                  <a:pt x="40" y="338"/>
                </a:cubicBezTo>
                <a:cubicBezTo>
                  <a:pt x="0" y="290"/>
                  <a:pt x="40" y="347"/>
                  <a:pt x="10" y="302"/>
                </a:cubicBezTo>
                <a:cubicBezTo>
                  <a:pt x="10" y="301"/>
                  <a:pt x="14" y="253"/>
                  <a:pt x="22" y="243"/>
                </a:cubicBezTo>
                <a:cubicBezTo>
                  <a:pt x="76" y="171"/>
                  <a:pt x="122" y="177"/>
                  <a:pt x="211" y="172"/>
                </a:cubicBezTo>
                <a:cubicBezTo>
                  <a:pt x="239" y="162"/>
                  <a:pt x="259" y="157"/>
                  <a:pt x="283" y="142"/>
                </a:cubicBezTo>
                <a:cubicBezTo>
                  <a:pt x="298" y="116"/>
                  <a:pt x="313" y="46"/>
                  <a:pt x="336" y="29"/>
                </a:cubicBezTo>
                <a:cubicBezTo>
                  <a:pt x="348" y="19"/>
                  <a:pt x="395" y="9"/>
                  <a:pt x="407" y="6"/>
                </a:cubicBezTo>
                <a:cubicBezTo>
                  <a:pt x="413" y="4"/>
                  <a:pt x="425" y="0"/>
                  <a:pt x="425" y="0"/>
                </a:cubicBezTo>
                <a:cubicBezTo>
                  <a:pt x="467" y="5"/>
                  <a:pt x="473" y="8"/>
                  <a:pt x="508" y="23"/>
                </a:cubicBezTo>
                <a:cubicBezTo>
                  <a:pt x="519" y="27"/>
                  <a:pt x="543" y="35"/>
                  <a:pt x="543" y="35"/>
                </a:cubicBezTo>
                <a:cubicBezTo>
                  <a:pt x="590" y="82"/>
                  <a:pt x="588" y="151"/>
                  <a:pt x="650" y="189"/>
                </a:cubicBezTo>
                <a:cubicBezTo>
                  <a:pt x="671" y="221"/>
                  <a:pt x="702" y="247"/>
                  <a:pt x="727" y="278"/>
                </a:cubicBezTo>
                <a:cubicBezTo>
                  <a:pt x="764" y="326"/>
                  <a:pt x="734" y="302"/>
                  <a:pt x="769" y="326"/>
                </a:cubicBezTo>
                <a:cubicBezTo>
                  <a:pt x="789" y="357"/>
                  <a:pt x="768" y="332"/>
                  <a:pt x="798" y="349"/>
                </a:cubicBezTo>
                <a:cubicBezTo>
                  <a:pt x="852" y="379"/>
                  <a:pt x="855" y="382"/>
                  <a:pt x="923" y="391"/>
                </a:cubicBezTo>
                <a:cubicBezTo>
                  <a:pt x="932" y="394"/>
                  <a:pt x="984" y="405"/>
                  <a:pt x="994" y="420"/>
                </a:cubicBezTo>
                <a:cubicBezTo>
                  <a:pt x="997" y="425"/>
                  <a:pt x="994" y="432"/>
                  <a:pt x="994" y="438"/>
                </a:cubicBez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5" name="">
            <a:hlinkClick r:id="rId4" action="ppaction://hlinksldjump"/>
          </p:cNvPr>
          <p:cNvSpPr/>
          <p:nvPr/>
        </p:nvSpPr>
        <p:spPr>
          <a:xfrm>
            <a:off x="0" y="0"/>
            <a:ext cx="2895480" cy="1015920"/>
          </a:xfrm>
          <a:prstGeom prst="rect">
            <a:avLst/>
          </a:prstGeom>
          <a:solidFill>
            <a:srgbClr val="ffffff">
              <a:alpha val="8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rrec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Arial"/>
              </a:rPr>
              <a:t>Click Here to return.</a:t>
            </a:r>
            <a:endParaRPr b="0" lang="en-US" sz="2400" spc="-1" strike="noStrike">
              <a:solidFill>
                <a:srgbClr val="000000"/>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7T15:03:58Z</dcterms:created>
  <dc:creator>Nick Cass</dc:creator>
  <dc:description/>
  <dc:language>en-US</dc:language>
  <cp:lastModifiedBy>Nick Cass</cp:lastModifiedBy>
  <dcterms:modified xsi:type="dcterms:W3CDTF">2007-03-19T11:24:36Z</dcterms:modified>
  <cp:revision>20</cp:revision>
  <dc:subject/>
  <dc:title>What was the Triangular Trade?</dc:title>
</cp:coreProperties>
</file>