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75A90-1B29-49BA-97FB-63CB17D613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F3FC-F77A-470D-A5F4-F4118A991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BA980-1FD7-4E4E-B77D-508079296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6BECF-E2AA-4DA3-AEE8-6A66B82C00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A9519-110A-4D26-8378-D27945E9C2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C54B1-8E75-4E75-923E-AF516E9D7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2407-3E03-41A8-A7B5-3D86D88AA3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2459-F17B-42B9-AA30-17CB0D483B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8613-1426-4B5E-BAB9-E0CED81603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AA6B-71FD-4BA3-84E4-AE16C5088E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8C8CB-0970-4795-A634-88753332E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8F112-96AE-4133-A828-FBBF79269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F3AFE-2971-45B5-92B4-4A1F55AA1D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4569-76C2-4527-A608-98E5FCF0AF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91D95-1378-49D6-B36A-E800AD9D4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CC0C4-67D0-4C2B-ADB0-88D7F19CB9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2D3F-56EF-40F5-A3D0-62691CA51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42F80-D5F1-471D-A692-232BF88E6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86169-4315-4260-86BA-FD87E80D67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B956-F294-4BBD-8479-B16F1252D3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7DB6B-DCB6-49D7-8DE1-7FF0A36ED1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9D06-8DE4-4E40-AE53-D58CF1661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BC5-3583-4F52-985F-AB81079B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C93B-45B6-4844-9532-F03E0808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3C4A-892F-426B-9563-BEA3A70A6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DEFB-AB6B-49D8-938E-3A113470A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5EBE-E489-4E82-8E4F-28ED4E312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85994-AA28-4788-ACF1-3E97BC4AD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87B4-1AE2-4E1D-AF1B-3A43255F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F55B7-E6F7-44B2-ACB5-7A1CD90A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2514C-C49C-4676-A9CE-9772E8432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D69C0-133A-4736-A0B0-6941B7325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E207-A757-459F-AA65-CD15798A6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1a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67616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C4CBB-A44D-4086-9725-C36D40DEE8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5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7.xm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10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7640" y="1522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wilberforce signature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3370320" y="3459240"/>
            <a:ext cx="2504880" cy="6062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>
            <a:hlinkClick r:id="" action="ppaction://hlinkshowjump?jump=nextslide"/>
          </p:cNvPr>
          <p:cNvSpPr/>
          <p:nvPr/>
        </p:nvSpPr>
        <p:spPr>
          <a:xfrm>
            <a:off x="3360600" y="505476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Religion was very important to William. He wrote a book about religion to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6477120" y="6235560"/>
            <a:ext cx="251460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3000" fill="hold"/>
                                        <p:tgtEl>
                                          <p:spTgt spid="9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Wilberforce Family Bible2"/>
          <p:cNvPicPr/>
          <p:nvPr/>
        </p:nvPicPr>
        <p:blipFill>
          <a:blip r:embed="rId1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304920" y="38098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66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He did like reading, but there is something else this book can tell 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66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" dur="2000" fill="hold"/>
                                        <p:tgtEl>
                                          <p:spTgt spid="10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304920" y="3986280"/>
            <a:ext cx="8515080" cy="5205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749"/>
              </a:spcBef>
              <a:buClr>
                <a:srgbClr val="00b2a9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A campaign is when people talk about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270000" y="4952880"/>
            <a:ext cx="8550000" cy="9471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2a9"/>
                </a:solidFill>
                <a:latin typeface="Arial"/>
              </a:rPr>
              <a:t>b) A campaign is when people work together to try and achieve some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Wilberforce was the leader of a very important campa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6629400" y="623880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2a9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" dur="3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609480" y="609480"/>
            <a:ext cx="358164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a 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campaign</a:t>
            </a: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b2a9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2a9"/>
                </a:solidFill>
                <a:latin typeface="Arial"/>
              </a:rPr>
              <a:t>Talking is important but a campaign is more than tha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6629400" y="6235560"/>
            <a:ext cx="2362320" cy="459720"/>
          </a:xfrm>
          <a:prstGeom prst="rect">
            <a:avLst/>
          </a:prstGeom>
          <a:noFill/>
          <a:ln w="28440">
            <a:solidFill>
              <a:srgbClr val="00b2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2a9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1"/>
          <a:stretch/>
        </p:blipFill>
        <p:spPr>
          <a:xfrm>
            <a:off x="4267080" y="304920"/>
            <a:ext cx="4673880" cy="3317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3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04920" y="3886200"/>
            <a:ext cx="8458200" cy="106884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campaigned to stop people being cruel to anim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304920" y="5257800"/>
            <a:ext cx="845820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William campaign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7" descr=""/>
          <p:cNvPicPr/>
          <p:nvPr/>
        </p:nvPicPr>
        <p:blipFill>
          <a:blip r:embed="rId1"/>
          <a:srcRect l="17100" t="10951" r="17619" b="0"/>
          <a:stretch/>
        </p:blipFill>
        <p:spPr>
          <a:xfrm>
            <a:off x="5334120" y="304920"/>
            <a:ext cx="3504960" cy="3394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4"/>
          <p:cNvSpPr/>
          <p:nvPr/>
        </p:nvSpPr>
        <p:spPr>
          <a:xfrm>
            <a:off x="-828720" y="647856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304920" y="3429000"/>
            <a:ext cx="86104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led the campaign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6629400" y="624852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4" dur="3000" fill="hold"/>
                                        <p:tgtEl>
                                          <p:spTgt spid="12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"/>
          <p:cNvSpPr/>
          <p:nvPr/>
        </p:nvSpPr>
        <p:spPr>
          <a:xfrm>
            <a:off x="609480" y="609480"/>
            <a:ext cx="464832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at is the main thing that William campaigned to chang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04920" y="3429000"/>
            <a:ext cx="8534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William did campaign to stop people being cruel to animals, but that is not the main thing he wanted to chan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1"/>
          <a:srcRect l="17079" t="10912" r="17632" b="0"/>
          <a:stretch/>
        </p:blipFill>
        <p:spPr>
          <a:xfrm>
            <a:off x="5332320" y="303120"/>
            <a:ext cx="3506760" cy="339588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0" dur="3000" fill="hold"/>
                                        <p:tgtEl>
                                          <p:spTgt spid="13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304920" y="4665600"/>
            <a:ext cx="838188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born in Hu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270000" y="5504040"/>
            <a:ext cx="84168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helped to stop slave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04920" y="373392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e remember William Wilberforce because he led a long campaign which made slavery sto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5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1676520" y="6248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">
            <a:hlinkClick r:id="rId1" action="ppaction://hlinksldjump"/>
          </p:cNvPr>
          <p:cNvSpPr/>
          <p:nvPr/>
        </p:nvSpPr>
        <p:spPr>
          <a:xfrm>
            <a:off x="0" y="0"/>
            <a:ext cx="899172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57240">
            <a:solidFill>
              <a:srgbClr val="00b2a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n’t forget, always click inside the answer boxe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wilberforce signature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3352680" y="4038480"/>
            <a:ext cx="2505240" cy="6066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>
            <a:hlinkClick r:id="" action="ppaction://hlinkshowjump?jump=nextslide"/>
          </p:cNvPr>
          <p:cNvSpPr/>
          <p:nvPr/>
        </p:nvSpPr>
        <p:spPr>
          <a:xfrm>
            <a:off x="3352680" y="47242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start quiz</a:t>
            </a:r>
            <a:r>
              <a:rPr b="0" lang="en-US" sz="1200" spc="-1" strike="noStrike">
                <a:solidFill>
                  <a:srgbClr val="ffcc66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" descr=""/>
          <p:cNvPicPr/>
          <p:nvPr/>
        </p:nvPicPr>
        <p:blipFill>
          <a:blip r:embed="rId3"/>
          <a:stretch/>
        </p:blipFill>
        <p:spPr>
          <a:xfrm rot="1847400">
            <a:off x="1050480" y="2792520"/>
            <a:ext cx="1536840" cy="23763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4"/>
          <p:cNvSpPr/>
          <p:nvPr/>
        </p:nvSpPr>
        <p:spPr>
          <a:xfrm>
            <a:off x="-828720" y="6526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"/>
          <p:cNvSpPr/>
          <p:nvPr/>
        </p:nvSpPr>
        <p:spPr>
          <a:xfrm>
            <a:off x="609480" y="609480"/>
            <a:ext cx="312444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o we remember William Wilberforc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304920" y="37339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ilberforce was born in Hull but that is not the main reason we remember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1927"/>
          <p:cNvPicPr/>
          <p:nvPr/>
        </p:nvPicPr>
        <p:blipFill>
          <a:blip r:embed="rId1"/>
          <a:stretch/>
        </p:blipFill>
        <p:spPr>
          <a:xfrm>
            <a:off x="5351400" y="228600"/>
            <a:ext cx="3400560" cy="42670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5"/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2844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Arial"/>
              </a:rPr>
              <a:t>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6" dur="3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Footer Placeholder 4"/>
          <p:cNvSpPr/>
          <p:nvPr/>
        </p:nvSpPr>
        <p:spPr>
          <a:xfrm>
            <a:off x="-82872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>
            <a:hlinkClick r:id="rId2" action="ppaction://hlinksldjump"/>
          </p:cNvPr>
          <p:cNvSpPr/>
          <p:nvPr/>
        </p:nvSpPr>
        <p:spPr>
          <a:xfrm>
            <a:off x="685800" y="518148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b) Because he was born in Hu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>
            <a:hlinkClick r:id="rId3" action="ppaction://hlinksldjump"/>
          </p:cNvPr>
          <p:cNvSpPr/>
          <p:nvPr/>
        </p:nvSpPr>
        <p:spPr>
          <a:xfrm>
            <a:off x="685800" y="4191120"/>
            <a:ext cx="7620120" cy="58140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80"/>
                </a:solidFill>
                <a:latin typeface="Arial"/>
              </a:rPr>
              <a:t>a) Because he was born in this hou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ooter Placeholder 4"/>
          <p:cNvSpPr/>
          <p:nvPr/>
        </p:nvSpPr>
        <p:spPr>
          <a:xfrm>
            <a:off x="-900000" y="65041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4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609480" y="3962520"/>
            <a:ext cx="807732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Correct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here over 200 years ago. He lived here until he was nine years ol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3000" fill="hold"/>
                                        <p:tgtEl>
                                          <p:spTgt spid="6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-828720" y="6489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wh-01"/>
          <p:cNvPicPr/>
          <p:nvPr/>
        </p:nvPicPr>
        <p:blipFill>
          <a:blip r:embed="rId1"/>
          <a:stretch/>
        </p:blipFill>
        <p:spPr>
          <a:xfrm>
            <a:off x="5029200" y="304920"/>
            <a:ext cx="3835440" cy="33033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3"/>
          <p:cNvSpPr/>
          <p:nvPr/>
        </p:nvSpPr>
        <p:spPr>
          <a:xfrm>
            <a:off x="609480" y="609480"/>
            <a:ext cx="39625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is there a museum about William Wilberforce in this House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609480" y="3962520"/>
            <a:ext cx="8077320" cy="169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80"/>
                </a:solidFill>
                <a:latin typeface="Arial"/>
              </a:rPr>
              <a:t>Sor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80"/>
                </a:solidFill>
                <a:latin typeface="Arial"/>
              </a:rPr>
              <a:t>He was born in Hull but there is another reaso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>
            <a:hlinkClick r:id="rId2" action="ppaction://hlinksldjump"/>
          </p:cNvPr>
          <p:cNvSpPr/>
          <p:nvPr/>
        </p:nvSpPr>
        <p:spPr>
          <a:xfrm>
            <a:off x="6781680" y="6248520"/>
            <a:ext cx="2210040" cy="459720"/>
          </a:xfrm>
          <a:prstGeom prst="rect">
            <a:avLst/>
          </a:prstGeom>
          <a:noFill/>
          <a:ln w="12600">
            <a:solidFill>
              <a:srgbClr val="ff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7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>
            <a:hlinkClick r:id="rId1" action="ppaction://hlinksldjump"/>
          </p:cNvPr>
          <p:cNvSpPr/>
          <p:nvPr/>
        </p:nvSpPr>
        <p:spPr>
          <a:xfrm>
            <a:off x="304920" y="4525920"/>
            <a:ext cx="845820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80008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ecause he was good at giving spee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>
            <a:hlinkClick r:id="rId2" action="ppaction://hlinksldjump"/>
          </p:cNvPr>
          <p:cNvSpPr/>
          <p:nvPr/>
        </p:nvSpPr>
        <p:spPr>
          <a:xfrm>
            <a:off x="345960" y="5334120"/>
            <a:ext cx="8417160" cy="58140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b) Because he wanted to help peop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ww1"/>
          <p:cNvPicPr/>
          <p:nvPr/>
        </p:nvPicPr>
        <p:blipFill>
          <a:blip r:embed="rId3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Correc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thought he could help lots of people if he was a Member of Parlia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8">
            <a:hlinkClick r:id="rId2" action="ppaction://hlinksldjump"/>
          </p:cNvPr>
          <p:cNvSpPr/>
          <p:nvPr/>
        </p:nvSpPr>
        <p:spPr>
          <a:xfrm>
            <a:off x="6629400" y="6172200"/>
            <a:ext cx="236232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Next Quest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" dur="3000" fill="hold"/>
                                        <p:tgtEl>
                                          <p:spTgt spid="82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"/>
          <p:cNvSpPr/>
          <p:nvPr/>
        </p:nvSpPr>
        <p:spPr>
          <a:xfrm>
            <a:off x="609480" y="609480"/>
            <a:ext cx="4343400" cy="24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Why did William decide to become a Member of Parliament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533520" y="403848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Sor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Arial"/>
              </a:rPr>
              <a:t>William was very good at giving speeches, but that is not the reas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ww1"/>
          <p:cNvPicPr/>
          <p:nvPr/>
        </p:nvPicPr>
        <p:blipFill>
          <a:blip r:embed="rId1"/>
          <a:srcRect l="2287" t="1855" r="4088" b="1855"/>
          <a:stretch/>
        </p:blipFill>
        <p:spPr>
          <a:xfrm>
            <a:off x="5715000" y="304920"/>
            <a:ext cx="3124080" cy="39621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5">
            <a:hlinkClick r:id="rId2" action="ppaction://hlinksldjump"/>
          </p:cNvPr>
          <p:cNvSpPr/>
          <p:nvPr/>
        </p:nvSpPr>
        <p:spPr>
          <a:xfrm>
            <a:off x="6781680" y="6235560"/>
            <a:ext cx="2210040" cy="459720"/>
          </a:xfrm>
          <a:prstGeom prst="rect">
            <a:avLst/>
          </a:prstGeom>
          <a:noFill/>
          <a:ln w="1260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0080"/>
                </a:solidFill>
                <a:latin typeface="Arial"/>
              </a:rPr>
              <a:t>Try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2000" fill="hold"/>
                                        <p:tgtEl>
                                          <p:spTgt spid="87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oter Placeholder 4"/>
          <p:cNvSpPr/>
          <p:nvPr/>
        </p:nvSpPr>
        <p:spPr>
          <a:xfrm>
            <a:off x="-900000" y="652464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Black"/>
              </a:rPr>
              <a:t>Hull Museum Education: Wilberforce House Muse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609480" y="609480"/>
            <a:ext cx="358164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This book belonged to William. What does it tell us about him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3">
            <a:hlinkClick r:id="rId1" action="ppaction://hlinksldjump"/>
          </p:cNvPr>
          <p:cNvSpPr/>
          <p:nvPr/>
        </p:nvSpPr>
        <p:spPr>
          <a:xfrm>
            <a:off x="304920" y="4525920"/>
            <a:ext cx="822960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ff6666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It tells us he liked read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>
            <a:hlinkClick r:id="rId2" action="ppaction://hlinksldjump"/>
          </p:cNvPr>
          <p:cNvSpPr/>
          <p:nvPr/>
        </p:nvSpPr>
        <p:spPr>
          <a:xfrm>
            <a:off x="270000" y="5450040"/>
            <a:ext cx="8264520" cy="581400"/>
          </a:xfrm>
          <a:prstGeom prst="rect">
            <a:avLst/>
          </a:prstGeom>
          <a:noFill/>
          <a:ln w="12600">
            <a:solidFill>
              <a:srgbClr val="ff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b) It tells us </a:t>
            </a:r>
            <a:r>
              <a:rPr b="0" lang="en-US" sz="3200" spc="-1" strike="noStrike">
                <a:solidFill>
                  <a:srgbClr val="ff6666"/>
                </a:solidFill>
                <a:latin typeface="ヒラギノ角ゴ Pro W3"/>
              </a:rPr>
              <a:t>r</a:t>
            </a:r>
            <a:r>
              <a:rPr b="0" lang="en-US" sz="3200" spc="-1" strike="noStrike">
                <a:solidFill>
                  <a:srgbClr val="ff6666"/>
                </a:solidFill>
                <a:latin typeface="Arial"/>
              </a:rPr>
              <a:t>eligion was important to hi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Wilberforce Family Bible2"/>
          <p:cNvPicPr/>
          <p:nvPr/>
        </p:nvPicPr>
        <p:blipFill>
          <a:blip r:embed="rId3"/>
          <a:stretch/>
        </p:blipFill>
        <p:spPr>
          <a:xfrm>
            <a:off x="4572000" y="304920"/>
            <a:ext cx="4267080" cy="4029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0T20:10:33Z</dcterms:created>
  <dc:creator>Nick Cass</dc:creator>
  <dc:description/>
  <dc:language>en-US</dc:language>
  <cp:lastModifiedBy>Bartley, Izzy</cp:lastModifiedBy>
  <dcterms:modified xsi:type="dcterms:W3CDTF">2018-03-28T10:14:20Z</dcterms:modified>
  <cp:revision>22</cp:revision>
  <dc:subject/>
  <dc:title>Why Do We Remember William Wilberforce?</dc:title>
</cp:coreProperties>
</file>