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32E8-9EC5-4426-B1F5-B5DA55015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F067-A95D-4394-B4B7-EDAAFB610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C869-C1BF-48DE-9245-6D2756E02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B0BC-5E26-40A1-9BAD-6B562BCAC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FC01-BF50-4233-BCE6-8F811A454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07EF-8516-4865-97C6-7F0E70CD3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82BE-787B-4188-8649-267DDD69A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8E5F-5A0B-430B-B331-8CDB653A1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7114-97D8-4436-B023-9B91082B4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D2F1-2FCD-4E54-9348-7DDFAA219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5459-4150-4A90-88C2-D4ED193E4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504F-9193-4787-A849-5A67F956E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F1B88-FDBC-4A2D-BFAF-EADC8C11AE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ylearning.org/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mylearning.org/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mylearning.org/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mylearning.org/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mylearning.org/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ir Raid Precautions Hand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2692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</a:t>
            </a: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mylearning.or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26920" y="620640"/>
            <a:ext cx="7560000" cy="53992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82692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www.mylearning.or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44600" y="419040"/>
            <a:ext cx="8254800" cy="60199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82692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www.mylearning.or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39640" y="387360"/>
            <a:ext cx="8064720" cy="60832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826920" y="65833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www.mylearning.or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411280" y="0"/>
            <a:ext cx="4152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44600" y="412920"/>
            <a:ext cx="8254800" cy="6032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26920" y="63943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</a:t>
            </a: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mylearning.or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96880" y="317520"/>
            <a:ext cx="7950240" cy="62229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692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</a:t>
            </a: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mylearning.or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44600" y="158760"/>
            <a:ext cx="8254800" cy="65404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82692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</a:t>
            </a: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mylearning.or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203040"/>
            <a:ext cx="8382240" cy="6451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2692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</a:t>
            </a: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mylearning.or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0880" y="127080"/>
            <a:ext cx="8382240" cy="6603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82692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www.mylearning.or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80880" y="266760"/>
            <a:ext cx="8382240" cy="63244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2692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www.mylearning.or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14520" y="828720"/>
            <a:ext cx="6114960" cy="52005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82692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www.mylearning.or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31T11:46:43Z</dcterms:created>
  <dc:creator>Alison Hughes</dc:creator>
  <dc:description/>
  <dc:language>en-US</dc:language>
  <cp:lastModifiedBy>Alison Hughes</cp:lastModifiedBy>
  <dcterms:modified xsi:type="dcterms:W3CDTF">2012-05-31T14:02:48Z</dcterms:modified>
  <cp:revision>5</cp:revision>
  <dc:subject/>
  <dc:title>Air Raid Precautions Handbook</dc:title>
</cp:coreProperties>
</file>