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CE65-8C51-48BA-8E36-54084618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0FB-6525-40B7-A9BF-397D08ED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0D51-70E2-470D-9A8B-BAC47926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43D-59F8-4966-9484-7FEB0172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DED-E74C-47A6-AE8E-4911EFBB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4301-C042-405D-B4B0-857307B7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06B1-D5D8-4885-9DBF-9A13725D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BF4A-A3F5-4A70-92A1-71E692B9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BEF-6A86-4AC4-BB82-4B06D2F5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4FE-5547-4BCA-806D-814662CB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E0C5-BE49-4B04-AD5E-A0EF79BE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FA65-8EAB-42D6-9A67-8DAF1D91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FE7D-7C1A-4A7A-9141-1098D5044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ylearning.org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Raid Precautions Hand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0000" cy="539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4600" y="419040"/>
            <a:ext cx="8254800" cy="601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387360"/>
            <a:ext cx="8064720" cy="608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6583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15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4600" y="412920"/>
            <a:ext cx="8254800" cy="603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6394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6880" y="317520"/>
            <a:ext cx="7950240" cy="6222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4600" y="158760"/>
            <a:ext cx="8254800" cy="6540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203040"/>
            <a:ext cx="8382240" cy="645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27080"/>
            <a:ext cx="8382240" cy="660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14520" y="82872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11:46:43Z</dcterms:created>
  <dc:creator>Alison Hughes</dc:creator>
  <dc:description/>
  <dc:language>en-US</dc:language>
  <cp:lastModifiedBy>Alison Hughes</cp:lastModifiedBy>
  <dcterms:modified xsi:type="dcterms:W3CDTF">2012-05-31T14:02:48Z</dcterms:modified>
  <cp:revision>5</cp:revision>
  <dc:subject/>
  <dc:title>Air Raid Precautions Handbook</dc:title>
</cp:coreProperties>
</file>