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0066-B70D-4841-8D30-0D9D4AA9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6733-CC8B-42BD-9072-1B67EFDE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760E-3615-4806-98D6-6412AD85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D6CB-9FA4-4A70-8D70-A8DF5B8B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6C2E-F5CC-412B-817F-67D8F1D1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80E9-B0F1-4DF7-8210-D9874870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4ED2-4102-40C9-B1F0-0DC8754D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A214-69A8-4895-8631-E1AD2B9F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A2C6-AA48-4E3B-86AD-62E2E29C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F3F6-80FC-43ED-B9A8-7E02905B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7C70-BDDE-4EC8-AE71-726C1359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1A23-FC22-41BC-AE3E-10A37C45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3A35-78D0-457B-85EE-0F9869DE7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ylearning.org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Raid Precautions Hand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560000" cy="5399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4600" y="419040"/>
            <a:ext cx="8254800" cy="6019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387360"/>
            <a:ext cx="8064720" cy="6083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6920" y="65833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15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4600" y="412920"/>
            <a:ext cx="8254800" cy="6032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6920" y="63943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96880" y="317520"/>
            <a:ext cx="7950240" cy="6222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4600" y="158760"/>
            <a:ext cx="8254800" cy="6540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203040"/>
            <a:ext cx="8382240" cy="6451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27080"/>
            <a:ext cx="8382240" cy="660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382240" cy="6324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14520" y="828720"/>
            <a:ext cx="6114960" cy="5200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11:46:43Z</dcterms:created>
  <dc:creator>Alison Hughes</dc:creator>
  <dc:description/>
  <dc:language>en-US</dc:language>
  <cp:lastModifiedBy>Alison Hughes</cp:lastModifiedBy>
  <dcterms:modified xsi:type="dcterms:W3CDTF">2012-05-31T14:02:48Z</dcterms:modified>
  <cp:revision>5</cp:revision>
  <dc:subject/>
  <dc:title>Air Raid Precautions Handbook</dc:title>
</cp:coreProperties>
</file>