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5CB-047E-4DDA-9082-7759C5F9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ACE-3540-4C85-8550-25336B0E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0CA-833D-4E0E-92E0-79556BC0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76B-F332-4FA6-A0FB-B556B3F1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FBE-C271-4D41-96BA-285EA9C9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1D7-7784-4AB7-9E58-629837EA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56A-B341-406D-B001-6036571F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6DE-EA09-480B-AF22-C986C38D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D23-61D1-45FA-9762-2BE59F86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92D-CE2D-4471-B815-C75C936A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CFE-8CB6-4CDE-81E4-146BFF84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7D3-F41D-48ED-AC21-2E58E938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D4C8-E897-4A5E-A574-BC7540EBA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learning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Raid Precautions Hand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0000" cy="539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4600" y="419040"/>
            <a:ext cx="82548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87360"/>
            <a:ext cx="8064720" cy="608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6583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1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4600" y="412920"/>
            <a:ext cx="8254800" cy="603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394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6880" y="317520"/>
            <a:ext cx="7950240" cy="622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6540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645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7080"/>
            <a:ext cx="8382240" cy="66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14520" y="82872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1:46:43Z</dcterms:created>
  <dc:creator>Alison Hughes</dc:creator>
  <dc:description/>
  <dc:language>en-US</dc:language>
  <cp:lastModifiedBy>Alison Hughes</cp:lastModifiedBy>
  <dcterms:modified xsi:type="dcterms:W3CDTF">2012-05-31T14:02:48Z</dcterms:modified>
  <cp:revision>5</cp:revision>
  <dc:subject/>
  <dc:title>Air Raid Precautions Handbook</dc:title>
</cp:coreProperties>
</file>