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041-6743-460A-BED0-AC352265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A77-57B0-474C-8682-F38C4EA5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F99-4676-45BD-82E4-2B967180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063-FCD3-4062-8D6E-986EE59F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F75-4BA3-4C31-9611-EFA46C3A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B61-4B86-44C3-B1D4-0C6167DF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9605-D4FF-4754-B619-238A93D9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12D-7EE8-496C-9319-1B9E98F4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630-DD7E-45F4-8004-8B1FA4F9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962-080A-4113-897A-263A7E51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125-DC15-43B7-A93D-6DF135EA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A7D-1A31-486C-9289-345BE14D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02A0-54E1-41B1-9BEF-68E8F9647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learning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Raid Precautions Hand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0000" cy="539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4600" y="419040"/>
            <a:ext cx="82548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8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3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1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4600" y="412920"/>
            <a:ext cx="8254800" cy="603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394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6880" y="317520"/>
            <a:ext cx="7950240" cy="622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645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8382240" cy="66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14520" y="82872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1:46:43Z</dcterms:created>
  <dc:creator>Alison Hughes</dc:creator>
  <dc:description/>
  <dc:language>en-US</dc:language>
  <cp:lastModifiedBy>Alison Hughes</cp:lastModifiedBy>
  <dcterms:modified xsi:type="dcterms:W3CDTF">2012-05-31T14:02:48Z</dcterms:modified>
  <cp:revision>5</cp:revision>
  <dc:subject/>
  <dc:title>Air Raid Precautions Handbook</dc:title>
</cp:coreProperties>
</file>