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D2B4-40EA-4BCF-A810-A391379D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FCE-2ABD-41DA-BB9C-BD5D9CAF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9979-BDFD-4CA1-9A27-FA629C57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01A1-0C07-4C49-9645-0F526ECE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5781-5BA3-448D-8CEE-7FC6431F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0EA-4813-408C-8B1F-1F99D870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2BC-A0E2-42AD-83CD-9FDE8D7C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A32-14E2-4FCA-BD2B-6DE72D86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0D6A-60EB-48A6-9738-B9F32CA5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05C7-D792-40DA-9457-1091AF65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CB7A-437D-4155-84DF-E864AEF8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47B2-3F9C-441C-A183-47F5EAB9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BF89-653B-49D0-8328-85AA20CBB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ylearning.org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Raid Precautions Hand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60000" cy="539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4600" y="419040"/>
            <a:ext cx="8254800" cy="601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387360"/>
            <a:ext cx="8064720" cy="608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6920" y="6583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15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4600" y="412920"/>
            <a:ext cx="8254800" cy="6032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6920" y="6394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96880" y="317520"/>
            <a:ext cx="7950240" cy="6222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4600" y="158760"/>
            <a:ext cx="8254800" cy="6540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203040"/>
            <a:ext cx="8382240" cy="645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27080"/>
            <a:ext cx="8382240" cy="660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382240" cy="6324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14520" y="82872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11:46:43Z</dcterms:created>
  <dc:creator>Alison Hughes</dc:creator>
  <dc:description/>
  <dc:language>en-US</dc:language>
  <cp:lastModifiedBy>Alison Hughes</cp:lastModifiedBy>
  <dcterms:modified xsi:type="dcterms:W3CDTF">2012-05-31T14:02:48Z</dcterms:modified>
  <cp:revision>5</cp:revision>
  <dc:subject/>
  <dc:title>Air Raid Precautions Handbook</dc:title>
</cp:coreProperties>
</file>