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21C-2EE2-4ECD-B724-B61C61F3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E02-6462-48AF-BC05-B5E2B549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2FD-CAD8-42C4-8517-BE219AFC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D17-D5C6-4D9B-9E73-455D1BEE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8D3-FD63-4F84-9ADE-831D69E6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F70-DED4-47F9-A2A1-14C2647F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641-135C-4785-8BB1-E8067FDF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82F-B567-4E90-AECA-F9D9962D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384-ABA8-4A92-A9CC-6B944ACA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A5E-1E93-422F-A1D2-9DF6AB6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4A4-F3A0-4691-B47A-A4ED996E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29D-BFF6-4D50-9543-7D1E863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72D8-9440-4187-9DF9-5041A83C77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image" Target="../media/image4.jpeg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image" Target="../media/image6.jpeg"/><Relationship Id="rId9" Type="http://schemas.openxmlformats.org/officeDocument/2006/relationships/slide" Target=""/><Relationship Id="rId10" Type="http://schemas.openxmlformats.org/officeDocument/2006/relationships/image" Target="../media/image7.jpeg"/><Relationship Id="rId11" Type="http://schemas.openxmlformats.org/officeDocument/2006/relationships/slide" Target=""/><Relationship Id="rId12" Type="http://schemas.openxmlformats.org/officeDocument/2006/relationships/image" Target="../media/image8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slide" Target=""/><Relationship Id="rId16" Type="http://schemas.openxmlformats.org/officeDocument/2006/relationships/image" Target="../media/image10.jpeg"/><Relationship Id="rId17" Type="http://schemas.openxmlformats.org/officeDocument/2006/relationships/slide" Target=""/><Relationship Id="rId18" Type="http://schemas.openxmlformats.org/officeDocument/2006/relationships/image" Target="../media/image11.jpeg"/><Relationship Id="rId19" Type="http://schemas.openxmlformats.org/officeDocument/2006/relationships/slide" Target=""/><Relationship Id="rId20" Type="http://schemas.openxmlformats.org/officeDocument/2006/relationships/image" Target="../media/image12.jpeg"/><Relationship Id="rId21" Type="http://schemas.openxmlformats.org/officeDocument/2006/relationships/slide" Target=""/><Relationship Id="rId22" Type="http://schemas.openxmlformats.org/officeDocument/2006/relationships/image" Target="../media/image13.jpeg"/><Relationship Id="rId23" Type="http://schemas.openxmlformats.org/officeDocument/2006/relationships/hyperlink" Target="http://www.mylearning.org/" TargetMode="External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" Target=""/><Relationship Id="rId15" Type="http://schemas.openxmlformats.org/officeDocument/2006/relationships/hyperlink" Target="http://www.mylearning.org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7524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43 AD the Romans arrived in Britain. For nearly 400 years the area of England that is now Grantham was part of the Roman Emp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562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ften people were buried with grave goods or belongings such as jewellery, weapons or potte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9320" y="45720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latin typeface="BankGothic Md BT"/>
              </a:rPr>
              <a:t>Roman Grantham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latin typeface="BankGothic Md BT"/>
              <a:ea typeface="BankGothic Md BT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4114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they died, these people were either buried or cremated (their bodies burnt and the ashes often placed in a large pot or ur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496880" cy="29527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2743200"/>
            <a:ext cx="1281240" cy="30290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2362320" y="2743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eople who lived in Roman Grantham adopted Roman styles of dressing, wore Roman style jewellery and used Roman style pots, tools and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pottery oil l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94160" cy="40514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83112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n iron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562360" cy="31370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754800" y="38088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piece of highly decorated pottery called Samian 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It is part of a bowl decorated with a hunting sc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648320" cy="31334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3678480" y="4572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4800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n iron sp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715000" cy="25970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678480" y="5335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95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191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n iron knife blade. The antler handle, another of the artefacts found, is the knife blade’s hand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400800" cy="22338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754800" y="5335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415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114156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4680" y="11336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d you work out which artefacts would have been with a man, which with a woman, and which might have been buried with either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5715000"/>
            <a:ext cx="12952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BankGothic Md BT"/>
              </a:rPr>
              <a:t>The</a:t>
            </a:r>
            <a:r>
              <a:rPr b="1" lang="en-GB" sz="2400" spc="-1" strike="noStrike">
                <a:solidFill>
                  <a:srgbClr val="663300"/>
                </a:solidFill>
                <a:latin typeface="BankGothic Md BT"/>
              </a:rPr>
              <a:t> </a:t>
            </a:r>
            <a:r>
              <a:rPr b="1" lang="en-GB" sz="2400" spc="-1" strike="noStrike">
                <a:solidFill>
                  <a:srgbClr val="9900cc"/>
                </a:solidFill>
                <a:latin typeface="BankGothic Md BT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6386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archaeologists excavate (dig up) a grave they will always look at the sorts of artefacts buried with the skeleton to help them work out whether it is a male or female bu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1805040" cy="42674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2163600" cy="42674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914400" cy="6159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267080" y="2590920"/>
            <a:ext cx="700200" cy="7617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191120" y="1676520"/>
            <a:ext cx="914400" cy="5158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04920" y="2514600"/>
            <a:ext cx="914400" cy="6159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8001000" y="1600200"/>
            <a:ext cx="83808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8121600" y="342900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191120" y="3657600"/>
            <a:ext cx="83808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7924680" y="2590920"/>
            <a:ext cx="908280" cy="5428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304920" y="3505320"/>
            <a:ext cx="838080" cy="4190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304920" y="4495680"/>
            <a:ext cx="914400" cy="319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68360" y="658332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43400" y="2438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chaeologists in Grantham have found the graves of two Roman people – a man and a wo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40600" y="4419720"/>
            <a:ext cx="20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cc"/>
                </a:solidFill>
                <a:latin typeface="Comic Sans MS"/>
              </a:rPr>
              <a:t>OH 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181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archaeologists have mixed all these grave goods up and they can’t remember which object or artefact belonged to which person – do you think you can hel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flipH="1">
            <a:off x="456840" y="1447920"/>
            <a:ext cx="3809880" cy="3360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29200" y="14479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900cc"/>
                </a:solidFill>
                <a:latin typeface="Comic Sans MS"/>
              </a:rPr>
              <a:t>Loo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5812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were each buried with their belongings or grav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9320" y="45720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latin typeface="BankGothic Md BT"/>
              </a:rPr>
              <a:t>Roman Grantham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latin typeface="BankGothic Md BT"/>
              <a:ea typeface="BankGothic Md BT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6880" y="685800"/>
            <a:ext cx="4038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 the bottom of this slide are the artefacts the archaeologists 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ich person you think they belonged t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 the next slide you can drag and drop the artefacts to the person you think they were buried 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START</a:t>
            </a:r>
            <a:r>
              <a:rPr b="1" lang="en-GB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you are read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5029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you don’t know what an object is click on it t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out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3886200" y="3886200"/>
            <a:ext cx="1447920" cy="398880"/>
          </a:xfrm>
          <a:prstGeom prst="rect">
            <a:avLst/>
          </a:prstGeom>
          <a:solidFill>
            <a:srgbClr val="ccffcc"/>
          </a:solidFill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815840" cy="3581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838080"/>
            <a:ext cx="148284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4724280"/>
            <a:ext cx="1143000" cy="7113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5715000"/>
            <a:ext cx="70020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5715000"/>
            <a:ext cx="1219320" cy="6872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5715000"/>
            <a:ext cx="1067040" cy="719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676520" y="4724280"/>
            <a:ext cx="83808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324480" y="472428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048120" y="5715000"/>
            <a:ext cx="83808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876920" y="5715000"/>
            <a:ext cx="128880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4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648320" y="4724280"/>
            <a:ext cx="152388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5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2666880" y="4724280"/>
            <a:ext cx="1828800" cy="638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3964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2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1066680" cy="411480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794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914400"/>
            <a:ext cx="1066680" cy="350532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974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304920"/>
            <a:ext cx="1066680" cy="411480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71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543800" y="4800600"/>
            <a:ext cx="10666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522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lick once on the artefact, then move it to a box, click again to drop. If you don’t know what the artefact is go BA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81620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3880" y="4800600"/>
            <a:ext cx="83844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600200" y="5867280"/>
            <a:ext cx="1066680" cy="719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28600" y="5867280"/>
            <a:ext cx="1219320" cy="6876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28600" y="4800600"/>
            <a:ext cx="1143000" cy="7113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791320" y="914400"/>
            <a:ext cx="148248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3962520" y="5791320"/>
            <a:ext cx="699840" cy="7617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6400800" y="480060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895480" y="5791320"/>
            <a:ext cx="83844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4876920" y="5791320"/>
            <a:ext cx="128880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48320" y="4800600"/>
            <a:ext cx="152388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590920" y="4800600"/>
            <a:ext cx="1828800" cy="638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7162920" y="5334120"/>
            <a:ext cx="175248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cc"/>
                </a:solidFill>
                <a:latin typeface="BankGothic Md BT"/>
              </a:rPr>
              <a:t>Want to check if you are right?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15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380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50292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knife handle made of antler bone. It is the handle of the knife blade, which is another of the artefacts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029200" cy="312912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952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Roman coin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360600" cy="36576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67848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1814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Roman ring – quite small in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191120" cy="386568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52620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n iron la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76920" cy="29192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602520" y="4572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4479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small glass bottle or phial. It may have contained perf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1452600" cy="41148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135680" y="38088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Vikki Pearson for Lincolnshire County Council</dc:creator>
  <dc:description>Contains drag and drop macro created by Hans Werner Hofman / Ute Simon</dc:description>
  <cp:keywords>Roman Grantham with drag and drop macro</cp:keywords>
  <dc:language>en-US</dc:language>
  <cp:lastModifiedBy>Alison Hughes</cp:lastModifiedBy>
  <dcterms:modified xsi:type="dcterms:W3CDTF">2013-01-30T11:16:03Z</dcterms:modified>
  <cp:revision>185</cp:revision>
  <dc:subject/>
  <dc:title>Roman Grantham Drag and Drop</dc:title>
</cp:coreProperties>
</file>