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46CE9-C24A-4D85-ACC3-D2190793AF2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68A2A-25BE-48DD-B2E1-89BD1A2EE22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0F05F-6C03-448A-9AE2-5F89FD261EA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4F5A3-09FB-48F5-8939-C12FC9BA6D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212F5-49D3-4C98-BED0-FC05AC733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AE6C86-2D4B-4405-A938-AC779DC72F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EF612D-3D72-43B1-A0FB-4E34946053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1BF07-07BF-47C9-848A-1A45A34F4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1547A-B480-4C6B-A564-91059B9FD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D3C09-3EEA-4619-B9E3-00CEB8626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C6CC5-BBBF-4B86-8C9A-ACD8D0F7E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F0F2C-A6DB-4201-8BB5-015F4A675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1549C-27DD-4166-A365-428A2AFF3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C6A99-E8A2-44CD-AD5A-C4E04F777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81E1F-5938-4B0D-A00A-D4C49F9813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5E62D-E32F-4788-97CC-55DE76BF7C7A}"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Picture 5" descr=""/>
          <p:cNvPicPr/>
          <p:nvPr/>
        </p:nvPicPr>
        <p:blipFill>
          <a:blip r:embed="rId1"/>
          <a:stretch/>
        </p:blipFill>
        <p:spPr>
          <a:xfrm>
            <a:off x="0" y="0"/>
            <a:ext cx="92473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sp>
        <p:nvSpPr>
          <p:cNvPr id="51" name="TextBox 1"/>
          <p:cNvSpPr/>
          <p:nvPr/>
        </p:nvSpPr>
        <p:spPr>
          <a:xfrm>
            <a:off x="39528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Roboto"/>
                <a:ea typeface="Arial"/>
              </a:rPr>
              <a:t>BPMA Learning resource Terms of Use </a:t>
            </a:r>
            <a:endParaRPr b="0" lang="en-US" sz="2800" spc="-1" strike="noStrike">
              <a:solidFill>
                <a:srgbClr val="000000"/>
              </a:solidFill>
              <a:latin typeface="Calibri"/>
            </a:endParaRPr>
          </a:p>
        </p:txBody>
      </p:sp>
      <p:sp>
        <p:nvSpPr>
          <p:cNvPr id="52" name="TextBox 2"/>
          <p:cNvSpPr/>
          <p:nvPr/>
        </p:nvSpPr>
        <p:spPr>
          <a:xfrm>
            <a:off x="538200" y="1484280"/>
            <a:ext cx="8064360" cy="558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By downloading this PowerPoint and using these images you agree to The British Postal Museum &amp; Archive (BPMA) and Royal Mail Group Ltd terms of use.</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The material in this PowerPoint is provided for non-commercial and educational use in your classroom.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 </a:t>
            </a:r>
            <a:r>
              <a:rPr b="0" lang="en-GB" sz="1800" spc="-1" strike="noStrike">
                <a:solidFill>
                  <a:srgbClr val="000000"/>
                </a:solidFill>
                <a:latin typeface="Roboto"/>
                <a:ea typeface="Roboto"/>
              </a:rPr>
              <a:t>You can use the presentation or individual images in lessons and activities, and print out the images for use in your classroom.</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You can share the presentation with other teachers for non-commercial and educational use in their classrooms.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Image credits must be included wherever the image is used. These are below each image, e.g. ©The British Postal Museum &amp; Archive 2010-0423/2</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Non-BPMA material is included at the agreement of the copyright holder and must also be credited, e.g. ©Courtesy of BT heritage and archi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4" name="Picture 2" descr=""/>
          <p:cNvPicPr/>
          <p:nvPr/>
        </p:nvPicPr>
        <p:blipFill>
          <a:blip r:embed="rId2"/>
          <a:stretch/>
        </p:blipFill>
        <p:spPr>
          <a:xfrm>
            <a:off x="372960" y="115920"/>
            <a:ext cx="4464000" cy="5786280"/>
          </a:xfrm>
          <a:prstGeom prst="rect">
            <a:avLst/>
          </a:prstGeom>
          <a:ln w="0">
            <a:noFill/>
          </a:ln>
        </p:spPr>
      </p:pic>
      <p:sp>
        <p:nvSpPr>
          <p:cNvPr id="55" name="TextBox 4"/>
          <p:cNvSpPr/>
          <p:nvPr/>
        </p:nvSpPr>
        <p:spPr>
          <a:xfrm>
            <a:off x="108000" y="5950080"/>
            <a:ext cx="6408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mp; Archive 2010-0423/2 ‘Human Ladder for telephone’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In the First World War, Post Office engineers were trained to set up, maintain and operate telephones on the front line. This hand-coloured lantern slide shows two soldiers, one standing on the others shoulders attempting to use a telephone on the fron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7" name="Picture 1" descr="P:\Access and Learning NEW\Schools Learning Officer\First World War LP\Research resources\Pete Scans\PO Circular 1914.jpeg"/>
          <p:cNvPicPr/>
          <p:nvPr/>
        </p:nvPicPr>
        <p:blipFill>
          <a:blip r:embed="rId2"/>
          <a:stretch/>
        </p:blipFill>
        <p:spPr>
          <a:xfrm>
            <a:off x="324000" y="147600"/>
            <a:ext cx="4535280" cy="6094440"/>
          </a:xfrm>
          <a:prstGeom prst="rect">
            <a:avLst/>
          </a:prstGeom>
          <a:ln w="0">
            <a:noFill/>
          </a:ln>
        </p:spPr>
      </p:pic>
      <p:sp>
        <p:nvSpPr>
          <p:cNvPr id="58" name="TextBox 4"/>
          <p:cNvSpPr/>
          <p:nvPr/>
        </p:nvSpPr>
        <p:spPr>
          <a:xfrm>
            <a:off x="108000" y="5950080"/>
            <a:ext cx="51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TextBox 5"/>
          <p:cNvSpPr/>
          <p:nvPr/>
        </p:nvSpPr>
        <p:spPr>
          <a:xfrm>
            <a:off x="250920" y="6257880"/>
            <a:ext cx="82454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Royal Mail Group Ltd 2014, courtesy of the British Postal Museum &amp; Archive POST 68/513 Post Office Circular August 1914</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This circular was sent via telegram at the outbreak of the war. It gives instructions for sending letters and parcels to the front line. </a:t>
            </a:r>
            <a:r>
              <a:rPr b="1" lang="en-GB" sz="1200" spc="-1" strike="noStrike">
                <a:solidFill>
                  <a:srgbClr val="000000"/>
                </a:solidFill>
                <a:latin typeface="Roboto"/>
                <a:ea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
          <p:cNvPicPr/>
          <p:nvPr/>
        </p:nvPicPr>
        <p:blipFill>
          <a:blip r:embed="rId1"/>
          <a:stretch/>
        </p:blipFill>
        <p:spPr>
          <a:xfrm rot="699000">
            <a:off x="7426440" y="5567040"/>
            <a:ext cx="1619280" cy="1138320"/>
          </a:xfrm>
          <a:prstGeom prst="rect">
            <a:avLst/>
          </a:prstGeom>
          <a:ln w="0">
            <a:noFill/>
          </a:ln>
        </p:spPr>
      </p:pic>
      <p:pic>
        <p:nvPicPr>
          <p:cNvPr id="61" name="Picture 3" descr=""/>
          <p:cNvPicPr/>
          <p:nvPr/>
        </p:nvPicPr>
        <p:blipFill>
          <a:blip r:embed="rId2"/>
          <a:stretch/>
        </p:blipFill>
        <p:spPr>
          <a:xfrm rot="858000">
            <a:off x="7408800" y="5535720"/>
            <a:ext cx="1619280" cy="1139760"/>
          </a:xfrm>
          <a:prstGeom prst="rect">
            <a:avLst/>
          </a:prstGeom>
          <a:ln w="0">
            <a:noFill/>
          </a:ln>
        </p:spPr>
      </p:pic>
      <p:pic>
        <p:nvPicPr>
          <p:cNvPr id="62" name="Picture 1" descr=""/>
          <p:cNvPicPr/>
          <p:nvPr/>
        </p:nvPicPr>
        <p:blipFill>
          <a:blip r:embed="rId3"/>
          <a:stretch/>
        </p:blipFill>
        <p:spPr>
          <a:xfrm>
            <a:off x="108000" y="189000"/>
            <a:ext cx="7632720" cy="5357880"/>
          </a:xfrm>
          <a:prstGeom prst="rect">
            <a:avLst/>
          </a:prstGeom>
          <a:ln w="0">
            <a:noFill/>
          </a:ln>
        </p:spPr>
      </p:pic>
      <p:pic>
        <p:nvPicPr>
          <p:cNvPr id="63" name="Picture 3" descr="\\PHSL901S\Public\Access and Learning NEW\images\bpma logos\the british postal museum and archive\logo and strapline\photoshop- tiffs, jpegs\jpg\hi_res\tbpma_logo_strap_cmyk_hr.jpg"/>
          <p:cNvPicPr/>
          <p:nvPr/>
        </p:nvPicPr>
        <p:blipFill>
          <a:blip r:embed="rId4"/>
          <a:stretch/>
        </p:blipFill>
        <p:spPr>
          <a:xfrm>
            <a:off x="7812000" y="115920"/>
            <a:ext cx="1122480" cy="1120680"/>
          </a:xfrm>
          <a:prstGeom prst="rect">
            <a:avLst/>
          </a:prstGeom>
          <a:ln w="0">
            <a:noFill/>
          </a:ln>
        </p:spPr>
      </p:pic>
      <p:sp>
        <p:nvSpPr>
          <p:cNvPr id="64" name="TextBox 7"/>
          <p:cNvSpPr/>
          <p:nvPr/>
        </p:nvSpPr>
        <p:spPr>
          <a:xfrm>
            <a:off x="108000" y="5661000"/>
            <a:ext cx="66247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1-0511/02 Belgian Pigeon Post in Flanders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messages to and from the front line where telephone lines did not exist. The army used about 100,000 pigeons and only two percent of birds failed to return. This black and white lantern slide shows pigeon handlers in Flanders, Belgium.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66" name="Picture 2" descr=""/>
          <p:cNvPicPr/>
          <p:nvPr/>
        </p:nvPicPr>
        <p:blipFill>
          <a:blip r:embed="rId2"/>
          <a:stretch/>
        </p:blipFill>
        <p:spPr>
          <a:xfrm>
            <a:off x="108000" y="98280"/>
            <a:ext cx="7128000" cy="5861160"/>
          </a:xfrm>
          <a:prstGeom prst="rect">
            <a:avLst/>
          </a:prstGeom>
          <a:ln w="0">
            <a:noFill/>
          </a:ln>
        </p:spPr>
      </p:pic>
      <p:pic>
        <p:nvPicPr>
          <p:cNvPr id="67" name="Picture 3" descr=""/>
          <p:cNvPicPr/>
          <p:nvPr/>
        </p:nvPicPr>
        <p:blipFill>
          <a:blip r:embed="rId3"/>
          <a:stretch/>
        </p:blipFill>
        <p:spPr>
          <a:xfrm rot="699000">
            <a:off x="7426440" y="5567040"/>
            <a:ext cx="1619280" cy="1138320"/>
          </a:xfrm>
          <a:prstGeom prst="rect">
            <a:avLst/>
          </a:prstGeom>
          <a:ln w="0">
            <a:noFill/>
          </a:ln>
        </p:spPr>
      </p:pic>
      <p:sp>
        <p:nvSpPr>
          <p:cNvPr id="68" name="TextBox 8"/>
          <p:cNvSpPr/>
          <p:nvPr/>
        </p:nvSpPr>
        <p:spPr>
          <a:xfrm>
            <a:off x="108000" y="6021360"/>
            <a:ext cx="71280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0-0423/5 Soldiers send messages by Morse cod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Morse code was used to deliver important messages in code during the First World War. It uses electrical signals to send messages based on short and long sounds or flashes of light that represent letters of the alphabet. This hand-coloured lantern slide shows British and French soldiers sending Morse code message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70" name="Picture 3" descr=""/>
          <p:cNvPicPr/>
          <p:nvPr/>
        </p:nvPicPr>
        <p:blipFill>
          <a:blip r:embed="rId2"/>
          <a:stretch/>
        </p:blipFill>
        <p:spPr>
          <a:xfrm rot="699000">
            <a:off x="7426440" y="5567040"/>
            <a:ext cx="1619280" cy="1138320"/>
          </a:xfrm>
          <a:prstGeom prst="rect">
            <a:avLst/>
          </a:prstGeom>
          <a:ln w="0">
            <a:noFill/>
          </a:ln>
        </p:spPr>
      </p:pic>
      <p:sp>
        <p:nvSpPr>
          <p:cNvPr id="71" name="TextBox 8"/>
          <p:cNvSpPr/>
          <p:nvPr/>
        </p:nvSpPr>
        <p:spPr>
          <a:xfrm>
            <a:off x="108000" y="6021360"/>
            <a:ext cx="712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 British Library Philatelic Collection – The Scott Collection. With permission.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secret messages during the First World War. The birds were dropped by parachute. Agents collected the pigeons and looked after them until they had secret information to send home. </a:t>
            </a:r>
            <a:endParaRPr b="0" lang="en-US" sz="1200" spc="-1" strike="noStrike">
              <a:solidFill>
                <a:srgbClr val="000000"/>
              </a:solidFill>
              <a:latin typeface="Calibri"/>
            </a:endParaRPr>
          </a:p>
        </p:txBody>
      </p:sp>
      <p:pic>
        <p:nvPicPr>
          <p:cNvPr id="72" name="Picture 2" descr="C:\Users\sally.sculthorpe.POSTALHERITAGE\AppData\Local\Microsoft\Windows\Temporary Internet Files\Content.IE5\A08GIAVS\Picture1.jpg"/>
          <p:cNvPicPr/>
          <p:nvPr/>
        </p:nvPicPr>
        <p:blipFill>
          <a:blip r:embed="rId3"/>
          <a:stretch/>
        </p:blipFill>
        <p:spPr>
          <a:xfrm>
            <a:off x="241200" y="836640"/>
            <a:ext cx="7204320" cy="377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6T13:58:28Z</dcterms:created>
  <dc:creator>template</dc:creator>
  <dc:description/>
  <dc:language>en-US</dc:language>
  <cp:lastModifiedBy>template</cp:lastModifiedBy>
  <dcterms:modified xsi:type="dcterms:W3CDTF">2014-08-20T18:24:47Z</dcterms:modified>
  <cp:revision>19</cp:revision>
  <dc:subject/>
  <dc:title>Slide 1</dc:title>
</cp:coreProperties>
</file>